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jpeg" ContentType="image/jpeg"/>
  <Override PartName="/ppt/media/image11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0F16-BFE4-4A62-8211-C2FEEE6706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6060-4B3D-4E8E-88DC-5EF714D3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3D039F-029B-44D2-B221-AE5D4ECA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9A494B-6686-416A-8B61-8DC233E1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EAD66C-D910-425B-A382-449B50DA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A70C0F-37B8-4F07-8846-E01BF74E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32EAB7-28A7-4081-BF3D-1945F8D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90779-67D3-4004-8E54-A13F53B2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01901-068C-4D53-AF49-B7CA7989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5388F2-79B5-4BC6-B837-6BBFA7D0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1854BA-0A0D-4CEA-BCA7-2A5A344B4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83B32-28BE-45FA-99D7-49704B3FB4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6E48-BB35-43A4-9AFC-561EEF8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E3B0F-84B5-4781-BE19-F9CDA7B4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421F-9E9F-4B1F-BF84-D6A0AA1A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1BA1F-2E38-45E0-AB87-3115D5F1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30DDC-ABC5-486F-BA73-F110FA50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5989-0CD6-4B82-A835-F8511603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B0992-A323-43E2-A1AF-E8767C38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3381-4FEA-4425-8E0B-604D983D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997B6-1681-4BA0-9C45-2DAA81AF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03182-3800-479A-B195-1FE33CB6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AA957-57E2-4E32-AF48-BD8A8D09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579C-1318-40E7-80BA-1F96E1DCD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8749-23BA-415C-825B-8F6D8C0AA3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B6D1A-3C2F-46AA-A256-4C565053A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E8D712-826A-4FA8-A17B-F834F60F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7F7AB-DAEF-4818-ACAA-55837085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7F1AF4-A8FA-4A70-9C66-51BDE37A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E8A7C8-39CD-472C-8FFF-42B2F37E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8B7BE2-3EF3-46F2-A950-CF34A6E6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BCB828-5984-484A-8DC1-C84BBFF8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070022-8803-427B-8868-85C9D25D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56299-0A0C-40B6-889E-DAF6AC2E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90243-9ADA-4B44-9EB6-CE7716E0C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79663-9CF9-43C6-A5B4-2136A12E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875CE6-387F-4656-A822-1FF9B614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247CE-C0A4-45BD-AAD2-B4D539A16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0BC12-448F-438F-A7FA-D448DC8CC4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58724-E12E-48B6-85F7-053523E6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C37F9-28AF-4DA9-8BEE-3BDF1B42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F34B9-308D-4B1F-9F8B-B632E955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4FD4D-2239-4E84-B027-2E2DB629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651C0-B19D-4056-87A0-48EF4E80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A8BC7-BA20-4C64-A42C-031B7286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99010-B0F1-4DD9-A532-A24FBEB4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D309B-4D06-44D4-8787-EB1738AD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CEF29-DB32-4D31-82E0-F2CAD6E8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59C7A-16E2-47CB-9F06-F629AB80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85CD2-2979-41B3-95C0-4FA33005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98A63-DE3B-474E-8303-391F71E7E4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6E14A-BE10-406A-B433-F30EF890A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40D03-D459-475E-9A8A-B7C9CEBE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62F69-1748-43C5-9DE6-593A3D92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E6CB6-E052-4434-A839-D3945CA7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FAB5C-4BC6-4B4D-BECC-9194D9B1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0352D-ECF8-4D08-BBD5-6B9AAA7C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BF52E-B7B5-4BC2-B807-D9174BE9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D8E23-A506-4070-9EEA-4AFB8FFB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42494-7B01-4D50-8989-B07D4A38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42E30-3FCC-4B23-98E0-72E586C8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F5AAA-163F-4220-A4DA-70C3389B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079D1-275D-4608-853F-5B4E482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8E3EF-3059-4E08-910B-A48A12ED47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ABEB4E-15A7-40DF-8AAC-7E56033509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5446C1-A7B9-485E-AD34-DE387243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2E712F-2D3B-4A2E-9058-50C051F5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71C5E-B699-428C-AD0C-6DF3A8A0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AFC6DF-BE3E-4DA8-B885-022AAFC7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3C4980-9C89-46A3-AEE3-AA916ABD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E031CD-1B40-40C8-9162-1D1469F1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A7970A-E4B6-46EF-92C6-B5173744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5478EF-A4D4-4423-8387-4B400023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B1D7E6-3E4A-4151-95CC-0D6D607C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ACC473-7623-4011-99FF-9C829324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5BD691-BA90-47DA-85B9-C81083FC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234CD8-DD77-4A5C-B029-8CA02AC388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29F21D-7B57-4E69-A413-EC0A91AFC1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031C7-9F10-4932-A5DE-D8C34C7F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8D8FA6-49E6-436C-B882-0CC6A947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500263-A266-4398-B4D4-6B4E9774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61BEFF-D90F-47A8-8014-63DCD767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E140E1-DB52-4739-8B3E-36EB714C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A9D187-483A-4453-AB73-F1FEACDA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AC51DC-50F5-41B0-BFA1-62B4C9A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88A330-F6EF-455E-AAB2-DAB2ED29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A37895-1AAF-43C4-A331-19DD863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9D7DDB-9EEA-4C86-B2CD-B92CD010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B30F8E-C692-4B2A-BBF6-73C1793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83A1D-B2DC-4E1B-97A7-89512131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630269-8603-414B-89FA-281370B59C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74F2D-2CA1-46DE-8CCA-9D8CC07F3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3A556-FF7C-480D-AB22-41D87A46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0B9E4-DA3E-4640-A3F9-4DBFADA6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92857-CD2D-4DE3-8F66-6A3A0B0F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5B8EB-0B2E-4115-A7FA-87F311B5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9AC6B-4D5F-46BB-9A1D-5FD35459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05484-9C7B-4196-A80E-66A953C4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225A6-8E30-448D-8CAF-870E675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A179D-7E3E-4E51-BD48-5233C20B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D948F-47D5-43DE-AFE1-5FDEEFF4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21B06-D3DF-4424-A725-39278B2F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23AB5-2900-4D2D-8B77-6372400B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5CE40-0064-4DC4-A17E-6242FE53C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9BB685-9895-4B17-B197-A43FAA770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A59A8F-12E3-4FA5-9B57-DC3BF92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917A5D-35A5-44DA-9DB3-137C9404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ED8B45-C43F-472F-B876-FD1F3E18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F84642-7EBE-426A-8EB6-1CD4995A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DB2D56-6DB4-49DB-940B-5F4A5561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5C3A24-9B42-4D4B-BD10-82E9CAB8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4A06-B52D-469B-90A7-5C589C9D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BC100-7D49-49A6-A6BF-7CF036E5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6DA0AE-E7D5-42D7-9C2E-BDA0F517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7F3DDF-CE95-4351-BA48-7026C69F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40E758-4B09-4A5E-B7C2-55747F76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7C4A09-BC58-4F03-A016-490A359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108DB9-CE34-4DBB-9134-F07E5AE897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25D6E6-F80C-4035-AF7A-57E6E5B14A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970BB4-4FAD-41F4-BBDD-14C2EAD5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4124D3-A058-4BEA-845E-C1E46DF9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493473-7DCB-4C0A-9112-A3273E8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C179C6-78B2-44C8-94DD-3A1E612F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71679-A7D1-490E-88C8-D2710B8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7E8A5B-F825-467E-A1BC-3BBB336D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10980C-BF20-4883-AD82-F6D8DDD1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DE97C0-411D-491C-969E-9EABC48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AC19BB-2271-4B79-8668-EEDA5C64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8CE2C0-41A0-4D79-88F4-18D41F2B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96D06C-5D34-461A-97AC-A2BF1C5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594E0A-C6B1-468E-9FAB-00AB240CA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D5129-EB83-4712-9904-A0E5CACA5A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6F864-0FDF-42E6-A871-23E6DF1F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DDA2A-9BFF-4696-9839-0EC9CD1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39E88-F636-44B1-AD27-CAF06C13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7407A-31EE-42A4-9A3E-9C6FF3C3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6BD30-D873-4B1F-AEB5-8DD1F4A1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50DF4-EF85-4C8B-A064-1ED14D83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447C4-E84B-455A-81AE-2DF6C750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D5AB3-39D9-4236-83F1-621F208E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3B0EF-E3B8-4640-A49B-D3DF7AE6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86114-CFB3-4C14-8003-468018E7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48AAE-101C-4B73-A7ED-6DEF6C4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20F2D-588E-474D-BAA2-2F979C559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9D4718-F700-4DDE-BEA0-141D9CD4A1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86950-D629-4C14-B70F-115F8FDC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F03E56-45EB-427F-B76E-F3B64C44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CABC39-53DB-4B92-A5E9-C33D8F4B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9957B8-5731-467D-B995-02EF4B25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28FB7F-2CC8-49F4-A72A-243737F2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B577A9-1207-42DC-8753-259C85C7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C2F56E-7526-49FC-BDBF-1288BBE3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9A813A-7D33-429A-AC50-46CA4198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5AB66B-9A63-4D24-A0E6-22BE0F1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12F600-CAFF-4667-BF6F-1BF38D2A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76286A-A9F1-4C90-A39C-EEEA7C60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7265A-E792-4133-A9AE-8AE3460761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505C9A-DE06-400A-B6AA-EC6B8D2E8F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DE6B82-4771-4BB4-9AAE-739397641A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197A5D-2A1C-474E-8C10-0167F5A2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D261EF-3383-4888-A6C8-48C49BF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B599F5-21CE-40F4-A46C-9D301BFD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ED54F2-7901-4904-A14E-2791AA9E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88584C-0CBA-44A3-B1BB-940A01D3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CF5135-C053-4AF2-9FE8-49755219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06DF2D-F791-4C3E-889D-34327F14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810A88-7809-43BB-A399-78330A95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DE838-D0FA-4B8A-A011-45947047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BB622E-6CDF-4FB4-BA3C-56B3CA3B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6AE7FA-54AD-4C01-B59F-FDAE787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ED8021F-A76F-4D49-A00F-730513DC0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F945E-15BE-48CA-B1D1-A9D201A2ED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DFFD9-2EB9-4524-BD49-D1A81993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DF388-1F47-461C-9F89-477204E9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F57DE-6D05-4D4C-B276-E18842C7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206FD-F775-41BE-88D0-654F3A13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73900-1954-4191-907B-721E98AF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E0F13-65B5-40D6-84B8-CE02C03A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7A8DB-528A-476D-A38A-28A315F7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B69A25-90C7-48AA-8CE3-4CADFFCB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84D86-6582-4E37-BE33-90EBAFE4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A9E47-E518-4D70-B4F1-09A8449E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19AB9-6575-4DC6-9D76-916DEB6D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F6F2A-CBC9-4482-9C1D-D8439F4D9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88457F-0D87-4857-98DD-5A2EEB3778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6D0EBA-FF6D-4532-9981-F6CE48D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310EB0-C882-4A2E-9DCD-13991975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217B90-5C81-4816-9384-8E6D7D91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663537-1CF1-4345-9CE4-F4046F78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A9A91-F8B3-4A20-9683-6DA26A2E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8E252B-9797-4CED-9692-8401442E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060548-FF64-4070-8D1E-4A690138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485BEF-BE86-4DAD-B07F-4B72A70A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044CCA-3C04-4000-B912-C1505BC3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858CCE-9D99-4868-BDC7-003EE8B4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E8D00A-596F-456F-9C7A-2CF9B0B7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2B4DAB-B858-4F80-AAA4-2B3F0B42EE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429F572-2A79-4ABC-AD29-7FF378FAD8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14DB6E-8F69-4664-A360-7D6DB2E4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C0AE30-7267-4E87-B004-41362804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AD709-49F2-41F8-904A-BED3AD2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A22192-57CE-4F79-82CF-C7A6460C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A43162-D3CB-4707-A372-58F38004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BC721A-EAF3-4470-9EAE-96AEC389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2E76D01-5E62-429D-8BD9-F547DB1E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43D006-5F88-436A-B6DE-3E3284B5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4B6D52-58FD-4E1D-B303-C57CE674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BFBAE4-6A6D-4CDF-BB8D-9323E009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354E3B-5AA5-4430-8341-178E331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DE23390-7A71-4B1E-8E42-68F816B64B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8B38C-0D65-4FA6-A947-0D6D1E4819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DDF5F0-5CC4-4137-89E3-CD148DDC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DBF8A-2BB4-4DA9-B254-7CEC284D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C7A8B-5DA5-4671-9B12-CF48A137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94F63-01FB-4DC3-986C-9D3F8949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5CAAD-B74A-46DD-B805-20D85A62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39353-10EA-45B7-9912-BDB26409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A3531-3C0A-4C2B-9992-C146416E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C2906-048E-46CC-8C0B-DD154BF2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E2FAD-8BF4-4A24-8ED8-62C79AE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CF276-7691-4159-9D57-BACC5B9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F7E02-9031-4F40-BD55-795702E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1830-5E95-427E-A724-D5C41D79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AD2B1-7B5D-4139-8F88-406533CE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F23A8-3047-4C5E-940E-57A94C2F7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5B6B0-F163-43F9-A44E-F5831FFA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93001-BB42-451D-83D1-16BF01F3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E3415-AC12-41CD-83FE-F305E12D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370A5-61C8-442A-87C5-8503B2DC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F0CFB2-8C97-437E-B220-B1195BC2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46955-8454-4BA1-87FA-290D1E63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46370-52B5-4E76-9838-EA122928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0D36F-921D-43A1-9B44-9A8D2618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DF81F-9FB2-4B3E-833B-FA5A23B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AEB3AF-C59A-46EB-94B1-0B6CB9E9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98813-E2CD-4CB9-AFDA-8A036DDD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B41B9-8AC4-40FA-891F-ADC37943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F5063-FA92-4824-85DC-66362435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85CE4-E280-417D-8832-3B89EC9A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AC1FD-0F67-4C90-8CFA-7F32E35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3E395-5685-4CB4-B48B-15B30177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9842FF-B029-4739-9E7F-CF695C62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80BCC-C9ED-41EA-9F4C-137E8C18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FD439-5B7C-4C6A-B23F-2C9B1F44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48CF74-9BC4-4DA6-9D07-C236F5E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F12FF-2D38-4F6F-942B-10ED050C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04BE48-6DB4-4505-B214-030AB3B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BAE16-F291-41E9-8A0E-2FD929C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3AB82-4F63-4810-B37B-9CCDD780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40A9B-43B2-4E49-9D22-4E2A634E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814C9-045B-4A7F-8C97-0EABF1D8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F5322-3646-4786-A9A9-6A4A377A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575F7-0463-4B09-81F1-17F60AF0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E7BAFD-49A2-489A-B8E4-221DC9F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6527C-9132-4936-B7FB-5B8B2246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58EDC1-996B-4ACA-AB5C-4A5561D1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76F70-4E82-4983-B9EF-41B679AC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86F490-AACE-46E6-848F-D896A87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B3AB57-4F59-41D1-AF73-0E78E61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CF47C-6F2F-438E-9312-BAAE094C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5D995-47C0-42CA-B0E5-91C9244E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8C96E-14B2-4348-B2FD-6873212A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F0E00-6E11-4F5C-80F7-8E90E35A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80544-1A31-45C8-A69F-36A27B2F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8B126-C8BC-4FE2-9FBD-6699873E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90DC31-BE2C-4AE6-9FF3-D3F28AC5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E753F-6B84-4AAE-8337-15C493F1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4F806-87E6-4FFC-B6FF-48023FF8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ADE93-E80D-4D5D-94D4-9638ED9D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4F790C-3317-4518-90AF-83FF8812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5C719-45C9-4FA3-A7F2-E7C6F1BE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8294A-B59D-41C0-81D5-0C0AC102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4698D6-E085-4600-A667-EF1DD6E2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A060E-97AD-4ACE-BDEA-88DB491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DB4DB-4195-4E44-A3C4-1EFAB4BE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A4E9D9-4FDD-4B13-85FE-C03E728C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C5F5D-AE43-4E79-84C4-9D265A36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FDE0A7-D218-4667-867B-B55F06C5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DCC64-A328-409A-A111-5D7BD9F9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EA1CFF-3E0B-4F79-BD7F-9059317D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3908E3-7D9A-42EA-B0AB-0AF31B8F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163255-293A-4587-9E5B-BC936C4A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6D4B5-BAA0-40FE-83E8-A5B93DFB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9CA6E0-4276-4B3D-81DB-5DCBE1A1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AD201F-3BBC-41C9-932A-D38A1042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501F66-0EF0-4D91-8E84-1F900A25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243382-29D2-48E1-9001-8E495AAE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51FA1-F2D8-42CD-B7FD-B47ED131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5ABA7C-95B3-4FBE-B582-87F3175A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6B775-FC79-448F-8F23-1D1709A1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7AA126-1AE5-4F1C-8855-B0EE9548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4EE6FC-4CD2-4196-99DA-E98B4ED3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CF0647-F976-4EE4-BBAE-B1886200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68EF77-7B11-4EC2-A7BD-D0F3CAD6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6B512E-E025-4502-801E-7190B45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B40BED-816C-4980-A8BE-429A7D36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98B127-2F77-45E0-8380-4E3DD18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9B17DE-6426-409F-9B59-76208CF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AFD9B-D5F1-48FA-A28E-54960314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1CFF72-EE46-403A-9AB9-B573866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6609-9A7E-4AAC-AD04-4F020D373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2E8250-7D30-45F1-A610-E3ECC300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6336A2-E46D-4688-A1CD-4CCDD4F1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656031-526B-46D3-AE3B-9ED63465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D85AB2-EC19-40C2-B626-DE73DFAF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74907B-5107-4F45-A92A-24AC575A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A3FA8E-7652-4C4E-BF2A-EE67E201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DEB81B-DC01-4F27-AC47-00E7D188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A73444-45AB-4E23-8FB5-4090BC2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805E1C-018B-458D-BCFA-8CEEFE2E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1F35FE-FA19-4FFB-9AE7-64F9A19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A2DE-9C9D-4F89-8D6F-F109B0D7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7DE09E-339F-4557-B0E6-185748CF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FF3C29-5F4A-42F9-973F-872FB9D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1F5B75-3F83-46AC-B41A-1498FC7A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DD7913-5898-4DB1-BB86-FE305569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C72DC8-545D-4BE7-B5EA-4872C9BC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127766-A756-4D9D-93B1-1D6C2F81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B8C3A8-27F7-4B90-B1F4-0E456EF0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3A118E-9CB7-469B-98C1-F8A183D6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EAF9B1-D849-4A59-A07C-306EB7FF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FAF0EC-55B6-497C-A80A-E51DF7E1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9D57-3DDD-42E8-8CF3-38FC87C2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8BFE70-4A64-43E2-A5C0-5F97005A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12A315-3860-4DBF-B89C-CF9820A5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384C98-CCF1-48D4-A98A-C8A5B5EF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494BF0-4120-45CC-ACE9-2952C480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3BB0CC-4603-4931-BE8D-5416EFF3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0F2FF0-5548-4BB6-8883-1584F673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16BBAB-DD8B-4432-9407-956FB1EC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3BB993-052B-4B61-BF18-467DEBB2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909744-F502-4EDA-ACD9-0395A1B2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7CF818-D470-4069-980C-0A372E13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8F8A-FF09-4B95-B36F-E9C4AD5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81AA-CDD1-4C91-935A-A054675E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95CE87-AB4F-4578-8360-476397C7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68C67A-184D-4D51-9625-DA03C1E2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25CAAE-D9A6-4945-A43E-0DCB4190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10FF1B-AACC-411E-9B3D-9CD5678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DDBF5B-4BBF-4EE0-B3D1-3B117306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D5A11E-EF4B-4224-ACA0-CF5B2BB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5B05AF-08CA-4371-894F-927E8369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189F8A-2CA2-4B43-96E1-EBB1C69E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00F3F8-4720-4FB0-AFD2-3FEADD9D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2529F4-ADC0-4C26-8289-01536F6B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0D0D-C52F-4E01-A28C-33644554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3005F1-7907-42B8-97D7-CCDD3C35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7B3298-BF0A-480A-80AC-7DB660AD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19CCB3-7755-45D4-B696-1B3B3186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8C5CFA-D389-4400-92F2-158DD132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0412A9-C74E-40B6-A4E2-76077097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A15D02-0436-4162-9563-09E3E96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DAF62A-8572-43E8-B353-51BE0CF1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A51139-7AB9-462F-AAFF-E9E22E1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780A64-CBA0-4753-A6F1-BB01C584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3FFBC6-CE79-437E-9B43-AFD16BD0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67BA-0AAF-4C22-B293-8085AA56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C49BF4-68E0-47C7-B2F9-75A090E1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84F467-2118-4E32-885D-2A3F826A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7435C3-C3B6-48DA-BC1F-8758A868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8E5D79-68F8-47BE-8819-43803939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541EFE-3E5A-4632-B107-C6A70C46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C13396-D185-4928-BAA4-06E175D4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48A7C2-3F23-4F86-A8DF-946B6FDD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370A67-6B65-430C-A99B-498EE8C8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7FEDB9-979C-45A0-AED8-3DFB971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4A110F-0C2E-4EC7-8CD6-446F9C7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6BB5-9DF0-4B6D-B33C-06E78039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1021B0-7238-4CB2-8396-474444F7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DCEE21-52D6-4EF7-AD39-B6EC2C9B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F241DD-CA40-4C02-B2F5-8FF4A652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900E-BCFD-4D51-A684-2A5ECC14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499A-CDB6-4CB0-AF61-6F001510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F22C-F0AE-4AD0-B7E8-16262F5E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DD47-B728-49B9-83BC-72EB31F0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915E-6129-4CC5-8739-1D2AC1FD49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95C8B-8C79-4E43-AC10-46C56FB24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0415-5B46-4ECF-A88D-AB710548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A1548-6314-46B2-9C2E-EEC98143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5F605-D2F1-4145-9F90-F393A089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46D16-15AE-46C4-9F7D-14DEB859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B9091-47B6-4F2A-A449-45A1F6D1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C0A7E-2C64-4E8F-BBD2-000C0103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D9DB8-B79B-4CDA-9752-FC99B6B4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EEEF2-3DE7-4286-91CB-6BA26401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BE1C0-3310-4222-9E51-FD28899B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973DF-4B5E-47BB-B959-984B1C01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7FE57-4945-4B6B-930E-C90ADED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65A1-4240-4143-9A0A-FB265B50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77BA2-DBEB-4F91-A6D5-3CDFDD902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9B3F6D-65D4-4448-AA6D-43BAA17442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414A51-7DA5-4789-92AC-E5A1969D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B41452-D45F-4A75-B1EC-C8187967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E0A911-4512-40F5-953E-75D142BF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6DC35A-0716-4A61-9A35-CCB0BB70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E65137-1D8E-49B9-B8C6-15642DD6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7D679-2BE1-413A-B4C4-B67F9409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643BC4-5C21-4D69-A52A-0CDA5772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CCCBC-A6C9-41D6-8A99-1FA0BEE4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5501-274B-4DDA-B40C-4511E89F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B36D1D-65A0-4B78-839D-05572AEC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5B5D4C-F587-4747-9A71-6597E7D4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78C45C-BF63-4710-BE9A-659F658DD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F071F-A038-4E21-BB99-3B72F9AE5E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33597-8A03-44A4-9FB3-CDFA1905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C6B5-533A-4554-B33E-1F8E5950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22E65-9680-4EB1-827F-5F80C97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B9095-971D-466B-B317-4F59F993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15FB-C8A7-46C8-903A-87ACF9E6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C91E8-B5D2-4904-8E00-2807A8E8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D1FD-D7FC-4054-B7E1-9EF9715E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49F1-FED7-4D4B-A7ED-12E86AB2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74BE4-1648-4CDF-8757-73940F9C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36778-1CBD-4F56-9E78-F4152D7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CF3C-0429-45D2-9714-FB151D9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ADF0E-D972-4A05-ADA0-4DD3658C0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8A7F3-B110-42CB-A514-B7EED09959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1E6F8-BE6C-4213-9AE3-2F15DF33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3023D0-463A-4AD7-97EA-3F2E6BE0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9CBE4-7899-4891-92B2-54FE20E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F252C-2FA2-40C0-848F-AC155ABD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02A2-15FB-43B4-9F2C-9A17B9D1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DD676-585C-4CE8-A189-4D32549F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CB082-072A-4DF6-810A-6373719D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C0A8F-8A09-4968-9CD1-458E89A0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965D9-77E4-417E-A304-57DC53B6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F05CB-B2F4-4869-A832-393A7F08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38D22-E207-4961-A5BB-E468E16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6C383-5BC0-43C5-879B-2D529A6856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AB4A00-E90B-46FA-8FCA-DD3A87A4D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3C61DA-F28B-4464-975D-7D4AE82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6F0C4-D647-45F1-9C42-A6DEE4F4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F203-B02C-477B-AABD-C3C71A125FD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06CB-835D-4B15-8F9B-8FACD3798A2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8426-2D21-4437-A7E8-36EDE77E48F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3921-7607-49BF-9378-E0460D21762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E4A2-E24E-40D2-B7BF-AF1C1D3F453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1C9E-EA99-47FD-97AC-FC844D4D33D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D9FD-D909-4452-800B-4C97CEFE48E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F384-C40E-4714-8C99-0DBA2418218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6037-CF69-48AC-92B2-9E71B3AF465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6B45-C837-45B8-AF9E-CF21BCF05DB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D9DC-25D7-4EDD-8685-C4E0CE2BF0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736B-6D02-4199-B979-C115E164349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883E-05F7-4C48-BA95-66FA9095AC4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327E-9275-4BE3-A505-9A9A524735C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5C98-C8F9-45FC-9074-7FC12E649AB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5D8D-28C4-4F6E-B005-49907E28FDD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4C9B-9379-4F9B-97F7-1F6D795F0B9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97DF-BFEF-454A-A623-8601BF8B2B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EC4B-BD96-4CF7-ABE5-5CC2AB5DA19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9D9B-2F42-4F59-AE6A-FE6871F74A9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E5B3-BAA9-42EB-B9F0-D9E9E04AD47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C04B-68AE-488A-A481-E6D4BD917EA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92CE-5068-4D8F-B2AA-CA2C4FFB212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0CD1-EF52-4782-9338-7D59D9370B4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761A-DF97-40A7-A0BE-B9E8CD956D1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C831-23CB-4088-867E-A7792C98CA9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52A6-177F-4633-A833-B11B62D73D5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CDF7-1B61-4545-9D2F-5E960744935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23AE-7738-4DE3-9A72-8D6A4EC2A64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9457-B954-416E-A56E-15BAD89A8D6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9819-23E3-49D4-AB7A-284506B5A2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FE0D-B32D-4B22-8046-29590CD24A8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4969-09EC-4483-A2E1-66DBFF197D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D09C-AC67-435B-B00C-6DE27EC190D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66AE-3849-4845-8444-54BC2684816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FF8F-96DA-4965-A064-A4743B34E9C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-181080" y="1773360"/>
            <a:ext cx="6769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已知一个数的几分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是多少求这个数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图片 27649" descr="37"/>
          <p:cNvPicPr/>
          <p:nvPr/>
        </p:nvPicPr>
        <p:blipFill>
          <a:blip r:embed="rId1"/>
          <a:stretch/>
        </p:blipFill>
        <p:spPr>
          <a:xfrm>
            <a:off x="63360" y="1484280"/>
            <a:ext cx="5013360" cy="1979640"/>
          </a:xfrm>
          <a:prstGeom prst="rect">
            <a:avLst/>
          </a:prstGeom>
          <a:ln w="0">
            <a:noFill/>
          </a:ln>
        </p:spPr>
      </p:pic>
      <p:sp>
        <p:nvSpPr>
          <p:cNvPr id="181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4" name="TextBox 14"/>
          <p:cNvSpPr/>
          <p:nvPr/>
        </p:nvSpPr>
        <p:spPr>
          <a:xfrm>
            <a:off x="173160" y="141300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5" name="TextBox 13"/>
          <p:cNvSpPr/>
          <p:nvPr/>
        </p:nvSpPr>
        <p:spPr>
          <a:xfrm>
            <a:off x="4427640" y="141300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图书馆共有多少本书？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6" name="TextBox 16"/>
          <p:cNvSpPr/>
          <p:nvPr/>
        </p:nvSpPr>
        <p:spPr>
          <a:xfrm>
            <a:off x="4427640" y="177336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图书馆有多少本故事书？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7" name="Rectangle 2"/>
          <p:cNvSpPr/>
          <p:nvPr/>
        </p:nvSpPr>
        <p:spPr>
          <a:xfrm>
            <a:off x="58680" y="407664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8" name="Rectangle 2"/>
          <p:cNvSpPr/>
          <p:nvPr/>
        </p:nvSpPr>
        <p:spPr>
          <a:xfrm>
            <a:off x="838080" y="4505400"/>
            <a:ext cx="76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“图书馆共有多少本书”需要哪个条件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9" name="Rectangle 2"/>
          <p:cNvSpPr/>
          <p:nvPr/>
        </p:nvSpPr>
        <p:spPr>
          <a:xfrm>
            <a:off x="844560" y="4933800"/>
            <a:ext cx="76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“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图书馆有多少本故事书”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1" name="Rectangle 2"/>
          <p:cNvSpPr/>
          <p:nvPr/>
        </p:nvSpPr>
        <p:spPr>
          <a:xfrm>
            <a:off x="826920" y="6237360"/>
            <a:ext cx="83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类似的问题，我们要注意什么？（找准和问题对应的条件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22" name="组合 28675"/>
          <p:cNvGrpSpPr/>
          <p:nvPr/>
        </p:nvGrpSpPr>
        <p:grpSpPr>
          <a:xfrm>
            <a:off x="0" y="5821200"/>
            <a:ext cx="8317080" cy="603360"/>
            <a:chOff x="0" y="5821200"/>
            <a:chExt cx="8317080" cy="603360"/>
          </a:xfrm>
        </p:grpSpPr>
        <p:sp>
          <p:nvSpPr>
            <p:cNvPr id="1823" name="Rectangle 2"/>
            <p:cNvSpPr/>
            <p:nvPr/>
          </p:nvSpPr>
          <p:spPr>
            <a:xfrm>
              <a:off x="826920" y="5848200"/>
              <a:ext cx="7490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会解决这两个问题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4" name="Rectangle 2"/>
            <p:cNvSpPr/>
            <p:nvPr/>
          </p:nvSpPr>
          <p:spPr>
            <a:xfrm>
              <a:off x="0" y="5821200"/>
              <a:ext cx="626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25" name="TextBox 13"/>
          <p:cNvSpPr/>
          <p:nvPr/>
        </p:nvSpPr>
        <p:spPr>
          <a:xfrm>
            <a:off x="4427640" y="141300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图书馆共有多少本书？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6" name="TextBox 16"/>
          <p:cNvSpPr/>
          <p:nvPr/>
        </p:nvSpPr>
        <p:spPr>
          <a:xfrm>
            <a:off x="4427640" y="177336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图书馆有多少本故事书？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27" name="组合 28680"/>
          <p:cNvGrpSpPr/>
          <p:nvPr/>
        </p:nvGrpSpPr>
        <p:grpSpPr>
          <a:xfrm>
            <a:off x="826920" y="3046320"/>
            <a:ext cx="8242200" cy="2976840"/>
            <a:chOff x="826920" y="3046320"/>
            <a:chExt cx="8242200" cy="2976840"/>
          </a:xfrm>
        </p:grpSpPr>
        <p:grpSp>
          <p:nvGrpSpPr>
            <p:cNvPr id="1828" name="组合 28681"/>
            <p:cNvGrpSpPr/>
            <p:nvPr/>
          </p:nvGrpSpPr>
          <p:grpSpPr>
            <a:xfrm>
              <a:off x="826920" y="3074760"/>
              <a:ext cx="4535280" cy="2948400"/>
              <a:chOff x="826920" y="3074760"/>
              <a:chExt cx="4535280" cy="2948400"/>
            </a:xfrm>
          </p:grpSpPr>
          <p:sp>
            <p:nvSpPr>
              <p:cNvPr id="1829" name="Text Box 14"/>
              <p:cNvSpPr/>
              <p:nvPr/>
            </p:nvSpPr>
            <p:spPr>
              <a:xfrm>
                <a:off x="826920" y="3074760"/>
                <a:ext cx="45352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解：设图书馆共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本书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宋体"/>
                  </a:rPr>
                  <a:t>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30" name="组合 28683"/>
              <p:cNvGrpSpPr/>
              <p:nvPr/>
            </p:nvGrpSpPr>
            <p:grpSpPr>
              <a:xfrm>
                <a:off x="1795320" y="3683880"/>
                <a:ext cx="2593800" cy="2339280"/>
                <a:chOff x="1795320" y="3683880"/>
                <a:chExt cx="2593800" cy="2339280"/>
              </a:xfrm>
            </p:grpSpPr>
            <p:sp>
              <p:nvSpPr>
                <p:cNvPr id="1831" name="文本框 28684"/>
                <p:cNvSpPr/>
                <p:nvPr/>
              </p:nvSpPr>
              <p:spPr>
                <a:xfrm>
                  <a:off x="2084040" y="3839400"/>
                  <a:ext cx="23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32" name="组合 28685"/>
                <p:cNvGrpSpPr/>
                <p:nvPr/>
              </p:nvGrpSpPr>
              <p:grpSpPr>
                <a:xfrm>
                  <a:off x="1795320" y="3683880"/>
                  <a:ext cx="511200" cy="815040"/>
                  <a:chOff x="1795320" y="3683880"/>
                  <a:chExt cx="511200" cy="815040"/>
                </a:xfrm>
              </p:grpSpPr>
              <p:sp>
                <p:nvSpPr>
                  <p:cNvPr id="1833" name="文本框 28686"/>
                  <p:cNvSpPr/>
                  <p:nvPr/>
                </p:nvSpPr>
                <p:spPr>
                  <a:xfrm>
                    <a:off x="1801800" y="40392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34" name="文本框 28687"/>
                  <p:cNvSpPr/>
                  <p:nvPr/>
                </p:nvSpPr>
                <p:spPr>
                  <a:xfrm>
                    <a:off x="1795320" y="36838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35" name="直接连接符 28688"/>
                  <p:cNvSpPr/>
                  <p:nvPr/>
                </p:nvSpPr>
                <p:spPr>
                  <a:xfrm>
                    <a:off x="1811160" y="41029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36" name="矩形 28689"/>
                <p:cNvSpPr/>
                <p:nvPr/>
              </p:nvSpPr>
              <p:spPr>
                <a:xfrm>
                  <a:off x="2156400" y="4396320"/>
                  <a:ext cx="113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÷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37" name="组合 28690"/>
                <p:cNvGrpSpPr/>
                <p:nvPr/>
              </p:nvGrpSpPr>
              <p:grpSpPr>
                <a:xfrm>
                  <a:off x="3240000" y="4217040"/>
                  <a:ext cx="510480" cy="815040"/>
                  <a:chOff x="3240000" y="4217040"/>
                  <a:chExt cx="510480" cy="815040"/>
                </a:xfrm>
              </p:grpSpPr>
              <p:sp>
                <p:nvSpPr>
                  <p:cNvPr id="1838" name="文本框 28691"/>
                  <p:cNvSpPr/>
                  <p:nvPr/>
                </p:nvSpPr>
                <p:spPr>
                  <a:xfrm>
                    <a:off x="3246120" y="45723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39" name="文本框 28692"/>
                  <p:cNvSpPr/>
                  <p:nvPr/>
                </p:nvSpPr>
                <p:spPr>
                  <a:xfrm>
                    <a:off x="3240000" y="421704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40" name="直接连接符 28693"/>
                  <p:cNvSpPr/>
                  <p:nvPr/>
                </p:nvSpPr>
                <p:spPr>
                  <a:xfrm>
                    <a:off x="3255480" y="463608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41" name="矩形 28694"/>
                <p:cNvSpPr/>
                <p:nvPr/>
              </p:nvSpPr>
              <p:spPr>
                <a:xfrm>
                  <a:off x="2157120" y="5014080"/>
                  <a:ext cx="114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2" name="文本框 28695"/>
                <p:cNvSpPr/>
                <p:nvPr/>
              </p:nvSpPr>
              <p:spPr>
                <a:xfrm>
                  <a:off x="2134800" y="5563440"/>
                  <a:ext cx="1068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0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43" name="组合 28696"/>
                <p:cNvGrpSpPr/>
                <p:nvPr/>
              </p:nvGrpSpPr>
              <p:grpSpPr>
                <a:xfrm>
                  <a:off x="3241440" y="4837680"/>
                  <a:ext cx="511200" cy="815040"/>
                  <a:chOff x="3241440" y="4837680"/>
                  <a:chExt cx="511200" cy="815040"/>
                </a:xfrm>
              </p:grpSpPr>
              <p:sp>
                <p:nvSpPr>
                  <p:cNvPr id="1844" name="文本框 28697"/>
                  <p:cNvSpPr/>
                  <p:nvPr/>
                </p:nvSpPr>
                <p:spPr>
                  <a:xfrm>
                    <a:off x="3247920" y="51930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45" name="文本框 28698"/>
                  <p:cNvSpPr/>
                  <p:nvPr/>
                </p:nvSpPr>
                <p:spPr>
                  <a:xfrm>
                    <a:off x="3241440" y="48376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46" name="直接连接符 28699"/>
                  <p:cNvSpPr/>
                  <p:nvPr/>
                </p:nvSpPr>
                <p:spPr>
                  <a:xfrm>
                    <a:off x="3257280" y="52567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7" name="组合 28700"/>
            <p:cNvGrpSpPr/>
            <p:nvPr/>
          </p:nvGrpSpPr>
          <p:grpSpPr>
            <a:xfrm>
              <a:off x="4533840" y="3046320"/>
              <a:ext cx="4535280" cy="2948400"/>
              <a:chOff x="4533840" y="3046320"/>
              <a:chExt cx="4535280" cy="2948400"/>
            </a:xfrm>
          </p:grpSpPr>
          <p:sp>
            <p:nvSpPr>
              <p:cNvPr id="1848" name="Text Box 14"/>
              <p:cNvSpPr/>
              <p:nvPr/>
            </p:nvSpPr>
            <p:spPr>
              <a:xfrm>
                <a:off x="4533840" y="3046320"/>
                <a:ext cx="45352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解：设图书馆共有故事书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本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宋体"/>
                  </a:rPr>
                  <a:t>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49" name="组合 28702"/>
              <p:cNvGrpSpPr/>
              <p:nvPr/>
            </p:nvGrpSpPr>
            <p:grpSpPr>
              <a:xfrm>
                <a:off x="5502240" y="3655440"/>
                <a:ext cx="2593800" cy="2339280"/>
                <a:chOff x="5502240" y="3655440"/>
                <a:chExt cx="2593800" cy="2339280"/>
              </a:xfrm>
            </p:grpSpPr>
            <p:sp>
              <p:nvSpPr>
                <p:cNvPr id="1850" name="文本框 28703"/>
                <p:cNvSpPr/>
                <p:nvPr/>
              </p:nvSpPr>
              <p:spPr>
                <a:xfrm>
                  <a:off x="5790960" y="3810960"/>
                  <a:ext cx="23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51" name="组合 28704"/>
                <p:cNvGrpSpPr/>
                <p:nvPr/>
              </p:nvGrpSpPr>
              <p:grpSpPr>
                <a:xfrm>
                  <a:off x="5502240" y="3655440"/>
                  <a:ext cx="511200" cy="815040"/>
                  <a:chOff x="5502240" y="3655440"/>
                  <a:chExt cx="511200" cy="815040"/>
                </a:xfrm>
              </p:grpSpPr>
              <p:sp>
                <p:nvSpPr>
                  <p:cNvPr id="1852" name="文本框 28705"/>
                  <p:cNvSpPr/>
                  <p:nvPr/>
                </p:nvSpPr>
                <p:spPr>
                  <a:xfrm>
                    <a:off x="5508720" y="40107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53" name="文本框 28706"/>
                  <p:cNvSpPr/>
                  <p:nvPr/>
                </p:nvSpPr>
                <p:spPr>
                  <a:xfrm>
                    <a:off x="5502240" y="36554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54" name="直接连接符 28707"/>
                  <p:cNvSpPr/>
                  <p:nvPr/>
                </p:nvSpPr>
                <p:spPr>
                  <a:xfrm>
                    <a:off x="5518080" y="40744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55" name="矩形 28708"/>
                <p:cNvSpPr/>
                <p:nvPr/>
              </p:nvSpPr>
              <p:spPr>
                <a:xfrm>
                  <a:off x="5863320" y="4367880"/>
                  <a:ext cx="113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÷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56" name="组合 28709"/>
                <p:cNvGrpSpPr/>
                <p:nvPr/>
              </p:nvGrpSpPr>
              <p:grpSpPr>
                <a:xfrm>
                  <a:off x="6946920" y="4188600"/>
                  <a:ext cx="510480" cy="815040"/>
                  <a:chOff x="6946920" y="4188600"/>
                  <a:chExt cx="510480" cy="815040"/>
                </a:xfrm>
              </p:grpSpPr>
              <p:sp>
                <p:nvSpPr>
                  <p:cNvPr id="1857" name="文本框 28710"/>
                  <p:cNvSpPr/>
                  <p:nvPr/>
                </p:nvSpPr>
                <p:spPr>
                  <a:xfrm>
                    <a:off x="6953040" y="454392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58" name="文本框 28711"/>
                  <p:cNvSpPr/>
                  <p:nvPr/>
                </p:nvSpPr>
                <p:spPr>
                  <a:xfrm>
                    <a:off x="6946920" y="418860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59" name="直接连接符 28712"/>
                  <p:cNvSpPr/>
                  <p:nvPr/>
                </p:nvSpPr>
                <p:spPr>
                  <a:xfrm>
                    <a:off x="6962400" y="460764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60" name="矩形 28713"/>
                <p:cNvSpPr/>
                <p:nvPr/>
              </p:nvSpPr>
              <p:spPr>
                <a:xfrm>
                  <a:off x="5864040" y="4985640"/>
                  <a:ext cx="114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61" name="文本框 28714"/>
                <p:cNvSpPr/>
                <p:nvPr/>
              </p:nvSpPr>
              <p:spPr>
                <a:xfrm>
                  <a:off x="5841720" y="5535000"/>
                  <a:ext cx="1068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4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62" name="组合 28715"/>
                <p:cNvGrpSpPr/>
                <p:nvPr/>
              </p:nvGrpSpPr>
              <p:grpSpPr>
                <a:xfrm>
                  <a:off x="6948360" y="4809240"/>
                  <a:ext cx="511200" cy="815040"/>
                  <a:chOff x="6948360" y="4809240"/>
                  <a:chExt cx="511200" cy="815040"/>
                </a:xfrm>
              </p:grpSpPr>
              <p:sp>
                <p:nvSpPr>
                  <p:cNvPr id="1863" name="文本框 28716"/>
                  <p:cNvSpPr/>
                  <p:nvPr/>
                </p:nvSpPr>
                <p:spPr>
                  <a:xfrm>
                    <a:off x="6954840" y="51645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64" name="文本框 28717"/>
                  <p:cNvSpPr/>
                  <p:nvPr/>
                </p:nvSpPr>
                <p:spPr>
                  <a:xfrm>
                    <a:off x="6948360" y="48092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65" name="直接连接符 28718"/>
                  <p:cNvSpPr/>
                  <p:nvPr/>
                </p:nvSpPr>
                <p:spPr>
                  <a:xfrm>
                    <a:off x="6964200" y="52282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866" name="图片 28719" descr="37"/>
          <p:cNvPicPr/>
          <p:nvPr/>
        </p:nvPicPr>
        <p:blipFill>
          <a:blip r:embed="rId1"/>
          <a:stretch/>
        </p:blipFill>
        <p:spPr>
          <a:xfrm>
            <a:off x="63360" y="1484280"/>
            <a:ext cx="5013360" cy="1979640"/>
          </a:xfrm>
          <a:prstGeom prst="rect">
            <a:avLst/>
          </a:prstGeom>
          <a:ln w="0">
            <a:noFill/>
          </a:ln>
        </p:spPr>
      </p:pic>
      <p:sp>
        <p:nvSpPr>
          <p:cNvPr id="1867" name="TextBox 14"/>
          <p:cNvSpPr/>
          <p:nvPr/>
        </p:nvSpPr>
        <p:spPr>
          <a:xfrm>
            <a:off x="173160" y="141300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9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71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872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873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874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875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876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877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357120" y="1484280"/>
            <a:ext cx="624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阅读下面的句子，说说你的理解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636480" y="2243160"/>
            <a:ext cx="624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男生人数占全班人数的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7" name="组合 19460"/>
          <p:cNvGrpSpPr/>
          <p:nvPr/>
        </p:nvGrpSpPr>
        <p:grpSpPr>
          <a:xfrm>
            <a:off x="4172040" y="2060640"/>
            <a:ext cx="511200" cy="888120"/>
            <a:chOff x="4172040" y="2060640"/>
            <a:chExt cx="511200" cy="888120"/>
          </a:xfrm>
        </p:grpSpPr>
        <p:sp>
          <p:nvSpPr>
            <p:cNvPr id="1488" name="文本框 19461"/>
            <p:cNvSpPr/>
            <p:nvPr/>
          </p:nvSpPr>
          <p:spPr>
            <a:xfrm>
              <a:off x="4178520" y="2415960"/>
              <a:ext cx="50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9" name="文本框 19462"/>
            <p:cNvSpPr/>
            <p:nvPr/>
          </p:nvSpPr>
          <p:spPr>
            <a:xfrm>
              <a:off x="4172040" y="206064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0" name="直接连接符 19463"/>
            <p:cNvSpPr/>
            <p:nvPr/>
          </p:nvSpPr>
          <p:spPr>
            <a:xfrm>
              <a:off x="4199040" y="25239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91" name="组合 19464"/>
          <p:cNvGrpSpPr/>
          <p:nvPr/>
        </p:nvGrpSpPr>
        <p:grpSpPr>
          <a:xfrm>
            <a:off x="401760" y="4429080"/>
            <a:ext cx="8286480" cy="923040"/>
            <a:chOff x="401760" y="4429080"/>
            <a:chExt cx="8286480" cy="923040"/>
          </a:xfrm>
        </p:grpSpPr>
        <p:sp>
          <p:nvSpPr>
            <p:cNvPr id="1492" name="Rectangle 2"/>
            <p:cNvSpPr/>
            <p:nvPr/>
          </p:nvSpPr>
          <p:spPr>
            <a:xfrm>
              <a:off x="401760" y="4429080"/>
              <a:ext cx="8286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你知道了什么？（男生人数与全班人数比较：全班人数是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，男生人数占全班人数的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93" name="组合 19466"/>
            <p:cNvGrpSpPr/>
            <p:nvPr/>
          </p:nvGrpSpPr>
          <p:grpSpPr>
            <a:xfrm>
              <a:off x="5543640" y="4537080"/>
              <a:ext cx="511200" cy="815040"/>
              <a:chOff x="5543640" y="4537080"/>
              <a:chExt cx="511200" cy="815040"/>
            </a:xfrm>
          </p:grpSpPr>
          <p:sp>
            <p:nvSpPr>
              <p:cNvPr id="1494" name="文本框 19467"/>
              <p:cNvSpPr/>
              <p:nvPr/>
            </p:nvSpPr>
            <p:spPr>
              <a:xfrm>
                <a:off x="5550120" y="4892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5" name="文本框 19468"/>
              <p:cNvSpPr/>
              <p:nvPr/>
            </p:nvSpPr>
            <p:spPr>
              <a:xfrm>
                <a:off x="5543640" y="4537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6" name="直接连接符 19469"/>
              <p:cNvSpPr/>
              <p:nvPr/>
            </p:nvSpPr>
            <p:spPr>
              <a:xfrm>
                <a:off x="5559480" y="49561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497" name="组合 19470"/>
          <p:cNvGrpSpPr/>
          <p:nvPr/>
        </p:nvGrpSpPr>
        <p:grpSpPr>
          <a:xfrm>
            <a:off x="1779480" y="2637000"/>
            <a:ext cx="3583800" cy="1379520"/>
            <a:chOff x="1779480" y="2637000"/>
            <a:chExt cx="3583800" cy="1379520"/>
          </a:xfrm>
        </p:grpSpPr>
        <p:grpSp>
          <p:nvGrpSpPr>
            <p:cNvPr id="1498" name="组合 19471"/>
            <p:cNvGrpSpPr/>
            <p:nvPr/>
          </p:nvGrpSpPr>
          <p:grpSpPr>
            <a:xfrm>
              <a:off x="2556000" y="3075120"/>
              <a:ext cx="511200" cy="815040"/>
              <a:chOff x="2556000" y="3075120"/>
              <a:chExt cx="511200" cy="815040"/>
            </a:xfrm>
          </p:grpSpPr>
          <p:sp>
            <p:nvSpPr>
              <p:cNvPr id="1499" name="文本框 19472"/>
              <p:cNvSpPr/>
              <p:nvPr/>
            </p:nvSpPr>
            <p:spPr>
              <a:xfrm>
                <a:off x="2562480" y="3430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0" name="文本框 19473"/>
              <p:cNvSpPr/>
              <p:nvPr/>
            </p:nvSpPr>
            <p:spPr>
              <a:xfrm>
                <a:off x="2556000" y="3075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1" name="直接连接符 19474"/>
              <p:cNvSpPr/>
              <p:nvPr/>
            </p:nvSpPr>
            <p:spPr>
              <a:xfrm>
                <a:off x="2571840" y="3494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02" name="组合 19475"/>
            <p:cNvGrpSpPr/>
            <p:nvPr/>
          </p:nvGrpSpPr>
          <p:grpSpPr>
            <a:xfrm>
              <a:off x="1779480" y="2637000"/>
              <a:ext cx="3583800" cy="1379520"/>
              <a:chOff x="1779480" y="2637000"/>
              <a:chExt cx="3583800" cy="1379520"/>
            </a:xfrm>
          </p:grpSpPr>
          <p:grpSp>
            <p:nvGrpSpPr>
              <p:cNvPr id="1503" name="组合 19476"/>
              <p:cNvGrpSpPr/>
              <p:nvPr/>
            </p:nvGrpSpPr>
            <p:grpSpPr>
              <a:xfrm>
                <a:off x="1782360" y="3945240"/>
                <a:ext cx="3580920" cy="71280"/>
                <a:chOff x="1782360" y="3945240"/>
                <a:chExt cx="3580920" cy="71280"/>
              </a:xfrm>
            </p:grpSpPr>
            <p:grpSp>
              <p:nvGrpSpPr>
                <p:cNvPr id="1504" name="组合 19477"/>
                <p:cNvGrpSpPr/>
                <p:nvPr/>
              </p:nvGrpSpPr>
              <p:grpSpPr>
                <a:xfrm>
                  <a:off x="1782360" y="3945240"/>
                  <a:ext cx="718200" cy="71280"/>
                  <a:chOff x="1782360" y="3945240"/>
                  <a:chExt cx="718200" cy="71280"/>
                </a:xfrm>
              </p:grpSpPr>
              <p:sp>
                <p:nvSpPr>
                  <p:cNvPr id="1505" name="直接连接符 19478"/>
                  <p:cNvSpPr/>
                  <p:nvPr/>
                </p:nvSpPr>
                <p:spPr>
                  <a:xfrm>
                    <a:off x="1782360" y="4016520"/>
                    <a:ext cx="718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6" name="直接连接符 19479"/>
                  <p:cNvSpPr/>
                  <p:nvPr/>
                </p:nvSpPr>
                <p:spPr>
                  <a:xfrm>
                    <a:off x="178236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07" name="组合 19480"/>
                <p:cNvGrpSpPr/>
                <p:nvPr/>
              </p:nvGrpSpPr>
              <p:grpSpPr>
                <a:xfrm>
                  <a:off x="2496240" y="3945240"/>
                  <a:ext cx="718560" cy="71280"/>
                  <a:chOff x="2496240" y="3945240"/>
                  <a:chExt cx="718560" cy="71280"/>
                </a:xfrm>
              </p:grpSpPr>
              <p:sp>
                <p:nvSpPr>
                  <p:cNvPr id="1508" name="直接连接符 19481"/>
                  <p:cNvSpPr/>
                  <p:nvPr/>
                </p:nvSpPr>
                <p:spPr>
                  <a:xfrm>
                    <a:off x="2496240" y="4016520"/>
                    <a:ext cx="71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9" name="直接连接符 19482"/>
                  <p:cNvSpPr/>
                  <p:nvPr/>
                </p:nvSpPr>
                <p:spPr>
                  <a:xfrm>
                    <a:off x="249624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10" name="组合 19483"/>
                <p:cNvGrpSpPr/>
                <p:nvPr/>
              </p:nvGrpSpPr>
              <p:grpSpPr>
                <a:xfrm>
                  <a:off x="3210480" y="3945240"/>
                  <a:ext cx="718200" cy="71280"/>
                  <a:chOff x="3210480" y="3945240"/>
                  <a:chExt cx="718200" cy="71280"/>
                </a:xfrm>
              </p:grpSpPr>
              <p:sp>
                <p:nvSpPr>
                  <p:cNvPr id="1511" name="直接连接符 19484"/>
                  <p:cNvSpPr/>
                  <p:nvPr/>
                </p:nvSpPr>
                <p:spPr>
                  <a:xfrm>
                    <a:off x="3210480" y="4016520"/>
                    <a:ext cx="718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2" name="直接连接符 19485"/>
                  <p:cNvSpPr/>
                  <p:nvPr/>
                </p:nvSpPr>
                <p:spPr>
                  <a:xfrm>
                    <a:off x="321048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13" name="组合 19486"/>
                <p:cNvGrpSpPr/>
                <p:nvPr/>
              </p:nvGrpSpPr>
              <p:grpSpPr>
                <a:xfrm>
                  <a:off x="3929040" y="3945240"/>
                  <a:ext cx="718560" cy="71280"/>
                  <a:chOff x="3929040" y="3945240"/>
                  <a:chExt cx="718560" cy="71280"/>
                </a:xfrm>
              </p:grpSpPr>
              <p:sp>
                <p:nvSpPr>
                  <p:cNvPr id="1514" name="直接连接符 19487"/>
                  <p:cNvSpPr/>
                  <p:nvPr/>
                </p:nvSpPr>
                <p:spPr>
                  <a:xfrm>
                    <a:off x="3929040" y="4016520"/>
                    <a:ext cx="71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5" name="直接连接符 19488"/>
                  <p:cNvSpPr/>
                  <p:nvPr/>
                </p:nvSpPr>
                <p:spPr>
                  <a:xfrm>
                    <a:off x="392904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16" name="组合 19489"/>
                <p:cNvGrpSpPr/>
                <p:nvPr/>
              </p:nvGrpSpPr>
              <p:grpSpPr>
                <a:xfrm>
                  <a:off x="4644720" y="3945240"/>
                  <a:ext cx="718560" cy="71280"/>
                  <a:chOff x="4644720" y="3945240"/>
                  <a:chExt cx="718560" cy="71280"/>
                </a:xfrm>
              </p:grpSpPr>
              <p:sp>
                <p:nvSpPr>
                  <p:cNvPr id="1517" name="直接连接符 19490"/>
                  <p:cNvSpPr/>
                  <p:nvPr/>
                </p:nvSpPr>
                <p:spPr>
                  <a:xfrm>
                    <a:off x="4644720" y="4016520"/>
                    <a:ext cx="71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8" name="直接连接符 19491"/>
                  <p:cNvSpPr/>
                  <p:nvPr/>
                </p:nvSpPr>
                <p:spPr>
                  <a:xfrm>
                    <a:off x="464472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19" name="直接连接符 19492"/>
                <p:cNvSpPr/>
                <p:nvPr/>
              </p:nvSpPr>
              <p:spPr>
                <a:xfrm>
                  <a:off x="5358600" y="394524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20" name="左大括号 19493"/>
              <p:cNvSpPr/>
              <p:nvPr/>
            </p:nvSpPr>
            <p:spPr>
              <a:xfrm flipV="1" rot="5400000">
                <a:off x="2415960" y="3106440"/>
                <a:ext cx="144720" cy="1383840"/>
              </a:xfrm>
              <a:custGeom>
                <a:avLst/>
                <a:gdLst>
                  <a:gd name="textAreaLeft" fmla="*/ 92520 w 144720"/>
                  <a:gd name="textAreaRight" fmla="*/ 145080 w 144720"/>
                  <a:gd name="textAreaTop" fmla="*/ 36000 h 1383840"/>
                  <a:gd name="textAreaBottom" fmla="*/ 1347840 h 13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1" name="文本框 19494"/>
              <p:cNvSpPr/>
              <p:nvPr/>
            </p:nvSpPr>
            <p:spPr>
              <a:xfrm>
                <a:off x="1991880" y="3251520"/>
                <a:ext cx="100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男生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2" name="左大括号 19495"/>
              <p:cNvSpPr/>
              <p:nvPr/>
            </p:nvSpPr>
            <p:spPr>
              <a:xfrm flipV="1" rot="5400000">
                <a:off x="3423960" y="1378080"/>
                <a:ext cx="293760" cy="3583080"/>
              </a:xfrm>
              <a:custGeom>
                <a:avLst/>
                <a:gdLst>
                  <a:gd name="textAreaLeft" fmla="*/ 187560 w 293760"/>
                  <a:gd name="textAreaRight" fmla="*/ 294120 w 293760"/>
                  <a:gd name="textAreaTop" fmla="*/ 93240 h 3583080"/>
                  <a:gd name="textAreaBottom" fmla="*/ 3489840 h 358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3" name="文本框 19496"/>
              <p:cNvSpPr/>
              <p:nvPr/>
            </p:nvSpPr>
            <p:spPr>
              <a:xfrm>
                <a:off x="3137760" y="2637000"/>
                <a:ext cx="8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“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24" name="组合 19497"/>
          <p:cNvGrpSpPr/>
          <p:nvPr/>
        </p:nvGrpSpPr>
        <p:grpSpPr>
          <a:xfrm>
            <a:off x="744480" y="5157720"/>
            <a:ext cx="7858080" cy="1258200"/>
            <a:chOff x="744480" y="5157720"/>
            <a:chExt cx="7858080" cy="1258200"/>
          </a:xfrm>
        </p:grpSpPr>
        <p:sp>
          <p:nvSpPr>
            <p:cNvPr id="1525" name="Rectangle 2"/>
            <p:cNvSpPr/>
            <p:nvPr/>
          </p:nvSpPr>
          <p:spPr>
            <a:xfrm>
              <a:off x="744480" y="5445000"/>
              <a:ext cx="785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你还能想到什么？（女生人数占全班人数的    ，男生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是女生人数的   ，女生人数是男生人数的   ，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6" name="组合 19499"/>
            <p:cNvGrpSpPr/>
            <p:nvPr/>
          </p:nvGrpSpPr>
          <p:grpSpPr>
            <a:xfrm>
              <a:off x="6472080" y="5157720"/>
              <a:ext cx="511200" cy="815040"/>
              <a:chOff x="6472080" y="5157720"/>
              <a:chExt cx="511200" cy="815040"/>
            </a:xfrm>
          </p:grpSpPr>
          <p:sp>
            <p:nvSpPr>
              <p:cNvPr id="1527" name="文本框 19500"/>
              <p:cNvSpPr/>
              <p:nvPr/>
            </p:nvSpPr>
            <p:spPr>
              <a:xfrm>
                <a:off x="6478560" y="5513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8" name="文本框 19501"/>
              <p:cNvSpPr/>
              <p:nvPr/>
            </p:nvSpPr>
            <p:spPr>
              <a:xfrm>
                <a:off x="6472080" y="5157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9" name="直接连接符 19502"/>
              <p:cNvSpPr/>
              <p:nvPr/>
            </p:nvSpPr>
            <p:spPr>
              <a:xfrm>
                <a:off x="6487920" y="5576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30" name="组合 19503"/>
            <p:cNvGrpSpPr/>
            <p:nvPr/>
          </p:nvGrpSpPr>
          <p:grpSpPr>
            <a:xfrm>
              <a:off x="3020760" y="5600880"/>
              <a:ext cx="511200" cy="815040"/>
              <a:chOff x="3020760" y="5600880"/>
              <a:chExt cx="511200" cy="815040"/>
            </a:xfrm>
          </p:grpSpPr>
          <p:sp>
            <p:nvSpPr>
              <p:cNvPr id="1531" name="文本框 19504"/>
              <p:cNvSpPr/>
              <p:nvPr/>
            </p:nvSpPr>
            <p:spPr>
              <a:xfrm>
                <a:off x="3027240" y="5956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2" name="文本框 19505"/>
              <p:cNvSpPr/>
              <p:nvPr/>
            </p:nvSpPr>
            <p:spPr>
              <a:xfrm>
                <a:off x="3020760" y="5600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3" name="直接连接符 19506"/>
              <p:cNvSpPr/>
              <p:nvPr/>
            </p:nvSpPr>
            <p:spPr>
              <a:xfrm>
                <a:off x="3036600" y="6019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34" name="组合 19507"/>
            <p:cNvGrpSpPr/>
            <p:nvPr/>
          </p:nvGrpSpPr>
          <p:grpSpPr>
            <a:xfrm>
              <a:off x="6249960" y="5594400"/>
              <a:ext cx="511200" cy="815040"/>
              <a:chOff x="6249960" y="5594400"/>
              <a:chExt cx="511200" cy="815040"/>
            </a:xfrm>
          </p:grpSpPr>
          <p:sp>
            <p:nvSpPr>
              <p:cNvPr id="1535" name="文本框 19508"/>
              <p:cNvSpPr/>
              <p:nvPr/>
            </p:nvSpPr>
            <p:spPr>
              <a:xfrm>
                <a:off x="6256440" y="5949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6" name="文本框 19509"/>
              <p:cNvSpPr/>
              <p:nvPr/>
            </p:nvSpPr>
            <p:spPr>
              <a:xfrm>
                <a:off x="6249960" y="5594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7" name="直接连接符 19510"/>
              <p:cNvSpPr/>
              <p:nvPr/>
            </p:nvSpPr>
            <p:spPr>
              <a:xfrm>
                <a:off x="6265800" y="6013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38" name="矩形 19512"/>
          <p:cNvSpPr/>
          <p:nvPr/>
        </p:nvSpPr>
        <p:spPr>
          <a:xfrm>
            <a:off x="198000" y="5440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9" name="矩形 19513"/>
          <p:cNvSpPr/>
          <p:nvPr/>
        </p:nvSpPr>
        <p:spPr>
          <a:xfrm>
            <a:off x="414000" y="5656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2"/>
          <p:cNvSpPr/>
          <p:nvPr/>
        </p:nvSpPr>
        <p:spPr>
          <a:xfrm>
            <a:off x="395280" y="1413000"/>
            <a:ext cx="6105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收集信息，明确条件问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2" name="图片 20483" descr="36"/>
          <p:cNvPicPr/>
          <p:nvPr/>
        </p:nvPicPr>
        <p:blipFill>
          <a:blip r:embed="rId1"/>
          <a:stretch/>
        </p:blipFill>
        <p:spPr>
          <a:xfrm>
            <a:off x="1547640" y="1916280"/>
            <a:ext cx="5942160" cy="2158920"/>
          </a:xfrm>
          <a:prstGeom prst="rect">
            <a:avLst/>
          </a:prstGeom>
          <a:ln w="0">
            <a:noFill/>
          </a:ln>
        </p:spPr>
      </p:pic>
      <p:sp>
        <p:nvSpPr>
          <p:cNvPr id="1543" name="矩形 20484"/>
          <p:cNvSpPr/>
          <p:nvPr/>
        </p:nvSpPr>
        <p:spPr>
          <a:xfrm>
            <a:off x="1574640" y="39337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明重多少千克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44" name="组合 20485"/>
          <p:cNvGrpSpPr/>
          <p:nvPr/>
        </p:nvGrpSpPr>
        <p:grpSpPr>
          <a:xfrm>
            <a:off x="179280" y="4881600"/>
            <a:ext cx="8750520" cy="1018080"/>
            <a:chOff x="179280" y="4881600"/>
            <a:chExt cx="8750520" cy="1018080"/>
          </a:xfrm>
        </p:grpSpPr>
        <p:sp>
          <p:nvSpPr>
            <p:cNvPr id="1545" name="Rectangle 2"/>
            <p:cNvSpPr/>
            <p:nvPr/>
          </p:nvSpPr>
          <p:spPr>
            <a:xfrm>
              <a:off x="179280" y="4881600"/>
              <a:ext cx="8750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你知道了什么？（小明体内的水分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8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，小明体内的水分占体重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     ，要求的是小明的体重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6" name="组合 20487"/>
            <p:cNvGrpSpPr/>
            <p:nvPr/>
          </p:nvGrpSpPr>
          <p:grpSpPr>
            <a:xfrm>
              <a:off x="1324080" y="5084640"/>
              <a:ext cx="511200" cy="815040"/>
              <a:chOff x="1324080" y="5084640"/>
              <a:chExt cx="511200" cy="815040"/>
            </a:xfrm>
          </p:grpSpPr>
          <p:sp>
            <p:nvSpPr>
              <p:cNvPr id="1547" name="文本框 20488"/>
              <p:cNvSpPr/>
              <p:nvPr/>
            </p:nvSpPr>
            <p:spPr>
              <a:xfrm>
                <a:off x="1330560" y="5439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8" name="文本框 20489"/>
              <p:cNvSpPr/>
              <p:nvPr/>
            </p:nvSpPr>
            <p:spPr>
              <a:xfrm>
                <a:off x="1324080" y="508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9" name="直接连接符 20490"/>
              <p:cNvSpPr/>
              <p:nvPr/>
            </p:nvSpPr>
            <p:spPr>
              <a:xfrm>
                <a:off x="1339920" y="5503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50" name="矩形 20492"/>
          <p:cNvSpPr/>
          <p:nvPr/>
        </p:nvSpPr>
        <p:spPr>
          <a:xfrm>
            <a:off x="198000" y="5440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1" name="矩形 20493"/>
          <p:cNvSpPr/>
          <p:nvPr/>
        </p:nvSpPr>
        <p:spPr>
          <a:xfrm>
            <a:off x="414000" y="5656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Rectangle 2"/>
          <p:cNvSpPr/>
          <p:nvPr/>
        </p:nvSpPr>
        <p:spPr>
          <a:xfrm>
            <a:off x="395280" y="1413000"/>
            <a:ext cx="6033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画图分析，理解数量关系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4" name="Rectangle 2"/>
          <p:cNvSpPr/>
          <p:nvPr/>
        </p:nvSpPr>
        <p:spPr>
          <a:xfrm>
            <a:off x="1143000" y="1928880"/>
            <a:ext cx="4000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根据题目的意思，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Rectangle 2"/>
          <p:cNvSpPr/>
          <p:nvPr/>
        </p:nvSpPr>
        <p:spPr>
          <a:xfrm>
            <a:off x="693720" y="5794200"/>
            <a:ext cx="82152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成人的信息与问题有关系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6" name="组合 21509"/>
          <p:cNvGrpSpPr/>
          <p:nvPr/>
        </p:nvGrpSpPr>
        <p:grpSpPr>
          <a:xfrm>
            <a:off x="1979640" y="2409840"/>
            <a:ext cx="3598920" cy="1958400"/>
            <a:chOff x="1979640" y="2409840"/>
            <a:chExt cx="3598920" cy="1958400"/>
          </a:xfrm>
        </p:grpSpPr>
        <p:grpSp>
          <p:nvGrpSpPr>
            <p:cNvPr id="1557" name="组合 21510"/>
            <p:cNvGrpSpPr/>
            <p:nvPr/>
          </p:nvGrpSpPr>
          <p:grpSpPr>
            <a:xfrm>
              <a:off x="3845160" y="2409840"/>
              <a:ext cx="511200" cy="815040"/>
              <a:chOff x="3845160" y="2409840"/>
              <a:chExt cx="511200" cy="815040"/>
            </a:xfrm>
          </p:grpSpPr>
          <p:sp>
            <p:nvSpPr>
              <p:cNvPr id="1558" name="文本框 21511"/>
              <p:cNvSpPr/>
              <p:nvPr/>
            </p:nvSpPr>
            <p:spPr>
              <a:xfrm>
                <a:off x="3851640" y="2765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9" name="文本框 21512"/>
              <p:cNvSpPr/>
              <p:nvPr/>
            </p:nvSpPr>
            <p:spPr>
              <a:xfrm>
                <a:off x="3845160" y="2409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0" name="直接连接符 21513"/>
              <p:cNvSpPr/>
              <p:nvPr/>
            </p:nvSpPr>
            <p:spPr>
              <a:xfrm>
                <a:off x="3861000" y="2828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61" name="组合 21514"/>
            <p:cNvGrpSpPr/>
            <p:nvPr/>
          </p:nvGrpSpPr>
          <p:grpSpPr>
            <a:xfrm>
              <a:off x="1979640" y="2546640"/>
              <a:ext cx="3598920" cy="1821600"/>
              <a:chOff x="1979640" y="2546640"/>
              <a:chExt cx="3598920" cy="1821600"/>
            </a:xfrm>
          </p:grpSpPr>
          <p:grpSp>
            <p:nvGrpSpPr>
              <p:cNvPr id="1562" name="组合 21515"/>
              <p:cNvGrpSpPr/>
              <p:nvPr/>
            </p:nvGrpSpPr>
            <p:grpSpPr>
              <a:xfrm>
                <a:off x="1982880" y="3240360"/>
                <a:ext cx="3582720" cy="71280"/>
                <a:chOff x="1982880" y="3240360"/>
                <a:chExt cx="3582720" cy="71280"/>
              </a:xfrm>
            </p:grpSpPr>
            <p:grpSp>
              <p:nvGrpSpPr>
                <p:cNvPr id="1563" name="组合 21516"/>
                <p:cNvGrpSpPr/>
                <p:nvPr/>
              </p:nvGrpSpPr>
              <p:grpSpPr>
                <a:xfrm>
                  <a:off x="1982880" y="3240360"/>
                  <a:ext cx="718920" cy="71280"/>
                  <a:chOff x="1982880" y="3240360"/>
                  <a:chExt cx="718920" cy="71280"/>
                </a:xfrm>
              </p:grpSpPr>
              <p:sp>
                <p:nvSpPr>
                  <p:cNvPr id="1564" name="直接连接符 21517"/>
                  <p:cNvSpPr/>
                  <p:nvPr/>
                </p:nvSpPr>
                <p:spPr>
                  <a:xfrm>
                    <a:off x="198288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65" name="直接连接符 21518"/>
                  <p:cNvSpPr/>
                  <p:nvPr/>
                </p:nvSpPr>
                <p:spPr>
                  <a:xfrm>
                    <a:off x="198288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66" name="组合 21519"/>
                <p:cNvGrpSpPr/>
                <p:nvPr/>
              </p:nvGrpSpPr>
              <p:grpSpPr>
                <a:xfrm>
                  <a:off x="2697120" y="3240360"/>
                  <a:ext cx="718920" cy="71280"/>
                  <a:chOff x="2697120" y="3240360"/>
                  <a:chExt cx="718920" cy="71280"/>
                </a:xfrm>
              </p:grpSpPr>
              <p:sp>
                <p:nvSpPr>
                  <p:cNvPr id="1567" name="直接连接符 21520"/>
                  <p:cNvSpPr/>
                  <p:nvPr/>
                </p:nvSpPr>
                <p:spPr>
                  <a:xfrm>
                    <a:off x="269712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68" name="直接连接符 21521"/>
                  <p:cNvSpPr/>
                  <p:nvPr/>
                </p:nvSpPr>
                <p:spPr>
                  <a:xfrm>
                    <a:off x="269712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69" name="组合 21522"/>
                <p:cNvGrpSpPr/>
                <p:nvPr/>
              </p:nvGrpSpPr>
              <p:grpSpPr>
                <a:xfrm>
                  <a:off x="3411720" y="3240360"/>
                  <a:ext cx="718920" cy="71280"/>
                  <a:chOff x="3411720" y="3240360"/>
                  <a:chExt cx="718920" cy="71280"/>
                </a:xfrm>
              </p:grpSpPr>
              <p:sp>
                <p:nvSpPr>
                  <p:cNvPr id="1570" name="直接连接符 21523"/>
                  <p:cNvSpPr/>
                  <p:nvPr/>
                </p:nvSpPr>
                <p:spPr>
                  <a:xfrm>
                    <a:off x="341172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1" name="直接连接符 21524"/>
                  <p:cNvSpPr/>
                  <p:nvPr/>
                </p:nvSpPr>
                <p:spPr>
                  <a:xfrm>
                    <a:off x="341172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72" name="组合 21525"/>
                <p:cNvGrpSpPr/>
                <p:nvPr/>
              </p:nvGrpSpPr>
              <p:grpSpPr>
                <a:xfrm>
                  <a:off x="4130640" y="3240360"/>
                  <a:ext cx="718920" cy="71280"/>
                  <a:chOff x="4130640" y="3240360"/>
                  <a:chExt cx="718920" cy="71280"/>
                </a:xfrm>
              </p:grpSpPr>
              <p:sp>
                <p:nvSpPr>
                  <p:cNvPr id="1573" name="直接连接符 21526"/>
                  <p:cNvSpPr/>
                  <p:nvPr/>
                </p:nvSpPr>
                <p:spPr>
                  <a:xfrm>
                    <a:off x="413064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4" name="直接连接符 21527"/>
                  <p:cNvSpPr/>
                  <p:nvPr/>
                </p:nvSpPr>
                <p:spPr>
                  <a:xfrm>
                    <a:off x="413064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75" name="组合 21528"/>
                <p:cNvGrpSpPr/>
                <p:nvPr/>
              </p:nvGrpSpPr>
              <p:grpSpPr>
                <a:xfrm>
                  <a:off x="4846680" y="3240360"/>
                  <a:ext cx="718920" cy="71280"/>
                  <a:chOff x="4846680" y="3240360"/>
                  <a:chExt cx="718920" cy="71280"/>
                </a:xfrm>
              </p:grpSpPr>
              <p:sp>
                <p:nvSpPr>
                  <p:cNvPr id="1576" name="直接连接符 21529"/>
                  <p:cNvSpPr/>
                  <p:nvPr/>
                </p:nvSpPr>
                <p:spPr>
                  <a:xfrm>
                    <a:off x="4846680" y="331164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7" name="直接连接符 21530"/>
                  <p:cNvSpPr/>
                  <p:nvPr/>
                </p:nvSpPr>
                <p:spPr>
                  <a:xfrm>
                    <a:off x="4846680" y="324036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78" name="直接连接符 21531"/>
                <p:cNvSpPr/>
                <p:nvPr/>
              </p:nvSpPr>
              <p:spPr>
                <a:xfrm>
                  <a:off x="5560920" y="324036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79" name="左大括号 21532"/>
              <p:cNvSpPr/>
              <p:nvPr/>
            </p:nvSpPr>
            <p:spPr>
              <a:xfrm flipV="1" rot="5400000">
                <a:off x="3314520" y="1691280"/>
                <a:ext cx="204840" cy="2862000"/>
              </a:xfrm>
              <a:custGeom>
                <a:avLst/>
                <a:gdLst>
                  <a:gd name="textAreaLeft" fmla="*/ 131040 w 204840"/>
                  <a:gd name="textAreaRight" fmla="*/ 205200 w 204840"/>
                  <a:gd name="textAreaTop" fmla="*/ 74520 h 2862000"/>
                  <a:gd name="textAreaBottom" fmla="*/ 2787480 h 286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0" name="文本框 21533"/>
              <p:cNvSpPr/>
              <p:nvPr/>
            </p:nvSpPr>
            <p:spPr>
              <a:xfrm>
                <a:off x="2192400" y="2546640"/>
                <a:ext cx="187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水分占体重的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1" name="左大括号 21534"/>
              <p:cNvSpPr/>
              <p:nvPr/>
            </p:nvSpPr>
            <p:spPr>
              <a:xfrm rot="16200000">
                <a:off x="3308400" y="2041200"/>
                <a:ext cx="204840" cy="2862360"/>
              </a:xfrm>
              <a:custGeom>
                <a:avLst/>
                <a:gdLst>
                  <a:gd name="textAreaLeft" fmla="*/ 131040 w 204840"/>
                  <a:gd name="textAreaRight" fmla="*/ 205200 w 204840"/>
                  <a:gd name="textAreaTop" fmla="*/ 74520 h 2862360"/>
                  <a:gd name="textAreaBottom" fmla="*/ 2787840 h 286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2" name="矩形 21535"/>
              <p:cNvSpPr/>
              <p:nvPr/>
            </p:nvSpPr>
            <p:spPr>
              <a:xfrm>
                <a:off x="2822760" y="3454560"/>
                <a:ext cx="15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水分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8kg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3" name="左大括号 21536"/>
              <p:cNvSpPr/>
              <p:nvPr/>
            </p:nvSpPr>
            <p:spPr>
              <a:xfrm rot="16200000">
                <a:off x="3670920" y="2110680"/>
                <a:ext cx="216000" cy="3598920"/>
              </a:xfrm>
              <a:custGeom>
                <a:avLst/>
                <a:gdLst>
                  <a:gd name="textAreaLeft" fmla="*/ 137880 w 216000"/>
                  <a:gd name="textAreaRight" fmla="*/ 216360 w 216000"/>
                  <a:gd name="textAreaTop" fmla="*/ 93600 h 3598920"/>
                  <a:gd name="textAreaBottom" fmla="*/ 3505320 h 359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4" name="矩形 21537"/>
              <p:cNvSpPr/>
              <p:nvPr/>
            </p:nvSpPr>
            <p:spPr>
              <a:xfrm>
                <a:off x="3133800" y="3908520"/>
                <a:ext cx="15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体重？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kg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85" name="组合 21538"/>
          <p:cNvGrpSpPr/>
          <p:nvPr/>
        </p:nvGrpSpPr>
        <p:grpSpPr>
          <a:xfrm>
            <a:off x="-84240" y="4437000"/>
            <a:ext cx="9614160" cy="1040400"/>
            <a:chOff x="-84240" y="4437000"/>
            <a:chExt cx="9614160" cy="1040400"/>
          </a:xfrm>
        </p:grpSpPr>
        <p:sp>
          <p:nvSpPr>
            <p:cNvPr id="1586" name="Rectangle 2"/>
            <p:cNvSpPr/>
            <p:nvPr/>
          </p:nvSpPr>
          <p:spPr>
            <a:xfrm>
              <a:off x="-84240" y="4437000"/>
              <a:ext cx="96141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看图，说明图意。（小明身体中水分的重量与体重做比较：小明的体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重是单位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，小明体内的水分占体重的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，求小明的体重是多少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87" name="组合 21540"/>
            <p:cNvGrpSpPr/>
            <p:nvPr/>
          </p:nvGrpSpPr>
          <p:grpSpPr>
            <a:xfrm>
              <a:off x="5816520" y="4662360"/>
              <a:ext cx="511200" cy="815040"/>
              <a:chOff x="5816520" y="4662360"/>
              <a:chExt cx="511200" cy="815040"/>
            </a:xfrm>
          </p:grpSpPr>
          <p:sp>
            <p:nvSpPr>
              <p:cNvPr id="1588" name="文本框 21541"/>
              <p:cNvSpPr/>
              <p:nvPr/>
            </p:nvSpPr>
            <p:spPr>
              <a:xfrm>
                <a:off x="5823000" y="5017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9" name="文本框 21542"/>
              <p:cNvSpPr/>
              <p:nvPr/>
            </p:nvSpPr>
            <p:spPr>
              <a:xfrm>
                <a:off x="5816520" y="4662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0" name="直接连接符 21543"/>
              <p:cNvSpPr/>
              <p:nvPr/>
            </p:nvSpPr>
            <p:spPr>
              <a:xfrm>
                <a:off x="5832360" y="5081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91" name="组合 21544"/>
          <p:cNvGrpSpPr/>
          <p:nvPr/>
        </p:nvGrpSpPr>
        <p:grpSpPr>
          <a:xfrm>
            <a:off x="689040" y="5251320"/>
            <a:ext cx="8712000" cy="815040"/>
            <a:chOff x="689040" y="5251320"/>
            <a:chExt cx="8712000" cy="815040"/>
          </a:xfrm>
        </p:grpSpPr>
        <p:sp>
          <p:nvSpPr>
            <p:cNvPr id="1592" name="Rectangle 2"/>
            <p:cNvSpPr/>
            <p:nvPr/>
          </p:nvSpPr>
          <p:spPr>
            <a:xfrm>
              <a:off x="689040" y="5300280"/>
              <a:ext cx="8712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你能列出一个等量关系吗？（小明的体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小明体内水分的质量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93" name="组合 21546"/>
            <p:cNvGrpSpPr/>
            <p:nvPr/>
          </p:nvGrpSpPr>
          <p:grpSpPr>
            <a:xfrm>
              <a:off x="5871960" y="5251320"/>
              <a:ext cx="511200" cy="815040"/>
              <a:chOff x="5871960" y="5251320"/>
              <a:chExt cx="511200" cy="815040"/>
            </a:xfrm>
          </p:grpSpPr>
          <p:sp>
            <p:nvSpPr>
              <p:cNvPr id="1594" name="文本框 21547"/>
              <p:cNvSpPr/>
              <p:nvPr/>
            </p:nvSpPr>
            <p:spPr>
              <a:xfrm>
                <a:off x="5878440" y="5606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5" name="文本框 21548"/>
              <p:cNvSpPr/>
              <p:nvPr/>
            </p:nvSpPr>
            <p:spPr>
              <a:xfrm>
                <a:off x="5871960" y="52513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6" name="直接连接符 21549"/>
              <p:cNvSpPr/>
              <p:nvPr/>
            </p:nvSpPr>
            <p:spPr>
              <a:xfrm>
                <a:off x="5887800" y="56703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97" name="矩形 21551"/>
          <p:cNvSpPr/>
          <p:nvPr/>
        </p:nvSpPr>
        <p:spPr>
          <a:xfrm>
            <a:off x="198000" y="5440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2"/>
          <p:cNvSpPr/>
          <p:nvPr/>
        </p:nvSpPr>
        <p:spPr>
          <a:xfrm>
            <a:off x="684360" y="5313240"/>
            <a:ext cx="62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谁能结合线段图说说对这种解法的理解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0" name="Rectangle 2"/>
          <p:cNvSpPr/>
          <p:nvPr/>
        </p:nvSpPr>
        <p:spPr>
          <a:xfrm>
            <a:off x="395280" y="1413000"/>
            <a:ext cx="5605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读懂过程，感悟不同方法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1" name="Rectangle 2"/>
          <p:cNvSpPr/>
          <p:nvPr/>
        </p:nvSpPr>
        <p:spPr>
          <a:xfrm>
            <a:off x="1471680" y="5948280"/>
            <a:ext cx="705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还有其他的解法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2" name="Rectangle 2"/>
          <p:cNvSpPr/>
          <p:nvPr/>
        </p:nvSpPr>
        <p:spPr>
          <a:xfrm>
            <a:off x="846000" y="1965240"/>
            <a:ext cx="2305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：</a:t>
            </a:r>
            <a:endParaRPr b="0" i="1" lang="en-US" sz="2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3" name="Rectangle 2"/>
          <p:cNvSpPr/>
          <p:nvPr/>
        </p:nvSpPr>
        <p:spPr>
          <a:xfrm>
            <a:off x="4224240" y="186696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：</a:t>
            </a:r>
            <a:endParaRPr b="0" i="1" lang="en-US" sz="2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4" name="Rectangle 2"/>
          <p:cNvSpPr/>
          <p:nvPr/>
        </p:nvSpPr>
        <p:spPr>
          <a:xfrm>
            <a:off x="6154560" y="185580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5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：</a:t>
            </a:r>
            <a:endParaRPr b="0" i="1" lang="en-US" sz="2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5" name="矩形 22536"/>
          <p:cNvSpPr/>
          <p:nvPr/>
        </p:nvSpPr>
        <p:spPr>
          <a:xfrm>
            <a:off x="846000" y="2424240"/>
            <a:ext cx="3240360" cy="2668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6" name="矩形 66"/>
          <p:cNvSpPr/>
          <p:nvPr/>
        </p:nvSpPr>
        <p:spPr>
          <a:xfrm>
            <a:off x="882720" y="3056040"/>
            <a:ext cx="3060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07" name="组合 22538"/>
          <p:cNvGrpSpPr/>
          <p:nvPr/>
        </p:nvGrpSpPr>
        <p:grpSpPr>
          <a:xfrm>
            <a:off x="846000" y="2382840"/>
            <a:ext cx="4013280" cy="2642400"/>
            <a:chOff x="846000" y="2382840"/>
            <a:chExt cx="4013280" cy="2642400"/>
          </a:xfrm>
        </p:grpSpPr>
        <p:sp>
          <p:nvSpPr>
            <p:cNvPr id="1608" name="文本框 22539"/>
            <p:cNvSpPr/>
            <p:nvPr/>
          </p:nvSpPr>
          <p:spPr>
            <a:xfrm>
              <a:off x="846000" y="2382840"/>
              <a:ext cx="401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解：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设小明的体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9" name="文本框 22540"/>
            <p:cNvSpPr/>
            <p:nvPr/>
          </p:nvSpPr>
          <p:spPr>
            <a:xfrm>
              <a:off x="1771560" y="2944800"/>
              <a:ext cx="247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0" name="组合 22541"/>
            <p:cNvGrpSpPr/>
            <p:nvPr/>
          </p:nvGrpSpPr>
          <p:grpSpPr>
            <a:xfrm>
              <a:off x="1461960" y="2774880"/>
              <a:ext cx="547560" cy="846720"/>
              <a:chOff x="1461960" y="2774880"/>
              <a:chExt cx="547560" cy="846720"/>
            </a:xfrm>
          </p:grpSpPr>
          <p:sp>
            <p:nvSpPr>
              <p:cNvPr id="1611" name="文本框 22542"/>
              <p:cNvSpPr/>
              <p:nvPr/>
            </p:nvSpPr>
            <p:spPr>
              <a:xfrm>
                <a:off x="1468800" y="3161880"/>
                <a:ext cx="54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文本框 22543"/>
              <p:cNvSpPr/>
              <p:nvPr/>
            </p:nvSpPr>
            <p:spPr>
              <a:xfrm>
                <a:off x="1461960" y="277488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3" name="直接连接符 22544"/>
              <p:cNvSpPr/>
              <p:nvPr/>
            </p:nvSpPr>
            <p:spPr>
              <a:xfrm>
                <a:off x="1478880" y="3231360"/>
                <a:ext cx="30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4" name="矩形 22545"/>
            <p:cNvSpPr/>
            <p:nvPr/>
          </p:nvSpPr>
          <p:spPr>
            <a:xfrm>
              <a:off x="1776240" y="3490920"/>
              <a:ext cx="142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5" name="组合 22546"/>
            <p:cNvGrpSpPr/>
            <p:nvPr/>
          </p:nvGrpSpPr>
          <p:grpSpPr>
            <a:xfrm>
              <a:off x="2805120" y="3271680"/>
              <a:ext cx="547200" cy="846720"/>
              <a:chOff x="2805120" y="3271680"/>
              <a:chExt cx="547200" cy="846720"/>
            </a:xfrm>
          </p:grpSpPr>
          <p:sp>
            <p:nvSpPr>
              <p:cNvPr id="1616" name="文本框 22547"/>
              <p:cNvSpPr/>
              <p:nvPr/>
            </p:nvSpPr>
            <p:spPr>
              <a:xfrm>
                <a:off x="2811960" y="3658680"/>
                <a:ext cx="54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7" name="文本框 22548"/>
              <p:cNvSpPr/>
              <p:nvPr/>
            </p:nvSpPr>
            <p:spPr>
              <a:xfrm>
                <a:off x="2805120" y="327168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8" name="直接连接符 22549"/>
              <p:cNvSpPr/>
              <p:nvPr/>
            </p:nvSpPr>
            <p:spPr>
              <a:xfrm>
                <a:off x="2822040" y="3728160"/>
                <a:ext cx="307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9" name="矩形 22550"/>
            <p:cNvSpPr/>
            <p:nvPr/>
          </p:nvSpPr>
          <p:spPr>
            <a:xfrm>
              <a:off x="1795320" y="4125960"/>
              <a:ext cx="13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20" name="组合 22551"/>
            <p:cNvGrpSpPr/>
            <p:nvPr/>
          </p:nvGrpSpPr>
          <p:grpSpPr>
            <a:xfrm>
              <a:off x="2801880" y="3917880"/>
              <a:ext cx="547560" cy="846720"/>
              <a:chOff x="2801880" y="3917880"/>
              <a:chExt cx="547560" cy="846720"/>
            </a:xfrm>
          </p:grpSpPr>
          <p:sp>
            <p:nvSpPr>
              <p:cNvPr id="1621" name="文本框 22552"/>
              <p:cNvSpPr/>
              <p:nvPr/>
            </p:nvSpPr>
            <p:spPr>
              <a:xfrm>
                <a:off x="2808720" y="4304880"/>
                <a:ext cx="54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2" name="文本框 22553"/>
              <p:cNvSpPr/>
              <p:nvPr/>
            </p:nvSpPr>
            <p:spPr>
              <a:xfrm>
                <a:off x="2801880" y="391788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3" name="直接连接符 22554"/>
              <p:cNvSpPr/>
              <p:nvPr/>
            </p:nvSpPr>
            <p:spPr>
              <a:xfrm>
                <a:off x="2818800" y="4374360"/>
                <a:ext cx="30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24" name="文本框 22555"/>
            <p:cNvSpPr/>
            <p:nvPr/>
          </p:nvSpPr>
          <p:spPr>
            <a:xfrm>
              <a:off x="1795320" y="4565520"/>
              <a:ext cx="247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25" name="矩形 22556"/>
          <p:cNvSpPr/>
          <p:nvPr/>
        </p:nvSpPr>
        <p:spPr>
          <a:xfrm>
            <a:off x="4525920" y="2411280"/>
            <a:ext cx="1515960" cy="1738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26" name="组合 22557"/>
          <p:cNvGrpSpPr/>
          <p:nvPr/>
        </p:nvGrpSpPr>
        <p:grpSpPr>
          <a:xfrm>
            <a:off x="4446720" y="2360520"/>
            <a:ext cx="2573280" cy="1631520"/>
            <a:chOff x="4446720" y="2360520"/>
            <a:chExt cx="2573280" cy="1631520"/>
          </a:xfrm>
        </p:grpSpPr>
        <p:sp>
          <p:nvSpPr>
            <p:cNvPr id="1627" name="矩形 22558"/>
            <p:cNvSpPr/>
            <p:nvPr/>
          </p:nvSpPr>
          <p:spPr>
            <a:xfrm>
              <a:off x="4446720" y="2540160"/>
              <a:ext cx="14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28" name="组合 22559"/>
            <p:cNvGrpSpPr/>
            <p:nvPr/>
          </p:nvGrpSpPr>
          <p:grpSpPr>
            <a:xfrm>
              <a:off x="5367240" y="2360520"/>
              <a:ext cx="566280" cy="816840"/>
              <a:chOff x="5367240" y="2360520"/>
              <a:chExt cx="566280" cy="816840"/>
            </a:xfrm>
          </p:grpSpPr>
          <p:sp>
            <p:nvSpPr>
              <p:cNvPr id="1629" name="文本框 22560"/>
              <p:cNvSpPr/>
              <p:nvPr/>
            </p:nvSpPr>
            <p:spPr>
              <a:xfrm>
                <a:off x="5374080" y="2717640"/>
                <a:ext cx="5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0" name="文本框 22561"/>
              <p:cNvSpPr/>
              <p:nvPr/>
            </p:nvSpPr>
            <p:spPr>
              <a:xfrm>
                <a:off x="5367240" y="2360520"/>
                <a:ext cx="39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1" name="直接连接符 22562"/>
              <p:cNvSpPr/>
              <p:nvPr/>
            </p:nvSpPr>
            <p:spPr>
              <a:xfrm>
                <a:off x="5384520" y="2781720"/>
                <a:ext cx="3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32" name="矩形 22563"/>
            <p:cNvSpPr/>
            <p:nvPr/>
          </p:nvSpPr>
          <p:spPr>
            <a:xfrm>
              <a:off x="4465800" y="312588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3" name="组合 22564"/>
            <p:cNvGrpSpPr/>
            <p:nvPr/>
          </p:nvGrpSpPr>
          <p:grpSpPr>
            <a:xfrm>
              <a:off x="5391000" y="2946240"/>
              <a:ext cx="566280" cy="817200"/>
              <a:chOff x="5391000" y="2946240"/>
              <a:chExt cx="566280" cy="817200"/>
            </a:xfrm>
          </p:grpSpPr>
          <p:sp>
            <p:nvSpPr>
              <p:cNvPr id="1634" name="文本框 22565"/>
              <p:cNvSpPr/>
              <p:nvPr/>
            </p:nvSpPr>
            <p:spPr>
              <a:xfrm>
                <a:off x="5397840" y="3303720"/>
                <a:ext cx="5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5" name="文本框 22566"/>
              <p:cNvSpPr/>
              <p:nvPr/>
            </p:nvSpPr>
            <p:spPr>
              <a:xfrm>
                <a:off x="5391000" y="2946240"/>
                <a:ext cx="39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6" name="直接连接符 22567"/>
              <p:cNvSpPr/>
              <p:nvPr/>
            </p:nvSpPr>
            <p:spPr>
              <a:xfrm>
                <a:off x="5408280" y="3367800"/>
                <a:ext cx="3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37" name="文本框 22568"/>
            <p:cNvSpPr/>
            <p:nvPr/>
          </p:nvSpPr>
          <p:spPr>
            <a:xfrm>
              <a:off x="4465800" y="3532320"/>
              <a:ext cx="25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8" name="组合 22569"/>
          <p:cNvGrpSpPr/>
          <p:nvPr/>
        </p:nvGrpSpPr>
        <p:grpSpPr>
          <a:xfrm>
            <a:off x="6462720" y="2409840"/>
            <a:ext cx="1925280" cy="1739520"/>
            <a:chOff x="6462720" y="2409840"/>
            <a:chExt cx="1925280" cy="1739520"/>
          </a:xfrm>
        </p:grpSpPr>
        <p:sp>
          <p:nvSpPr>
            <p:cNvPr id="1639" name="矩形 22570"/>
            <p:cNvSpPr/>
            <p:nvPr/>
          </p:nvSpPr>
          <p:spPr>
            <a:xfrm>
              <a:off x="6462720" y="2409840"/>
              <a:ext cx="1925280" cy="173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0" name="文本框 22571"/>
            <p:cNvSpPr/>
            <p:nvPr/>
          </p:nvSpPr>
          <p:spPr>
            <a:xfrm>
              <a:off x="6542280" y="2487960"/>
              <a:ext cx="176616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4×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×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642" name="ShockwaveFlash2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643" name="图片 23555" descr=""/>
          <p:cNvPicPr/>
          <p:nvPr/>
        </p:nvPicPr>
        <p:blipFill>
          <a:blip r:embed="rId3"/>
          <a:stretch/>
        </p:blipFill>
        <p:spPr>
          <a:xfrm>
            <a:off x="347760" y="266760"/>
            <a:ext cx="838188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2"/>
          <p:cNvSpPr/>
          <p:nvPr/>
        </p:nvSpPr>
        <p:spPr>
          <a:xfrm>
            <a:off x="395280" y="1413000"/>
            <a:ext cx="660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四）回顾反思，沟通不同方法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6" name="Rectangle 2"/>
          <p:cNvSpPr/>
          <p:nvPr/>
        </p:nvSpPr>
        <p:spPr>
          <a:xfrm>
            <a:off x="1636560" y="5505480"/>
            <a:ext cx="708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些不同的算法中有什么相同点与不同点？（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相同，数量之间的关系相同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7" name="矩形 35"/>
          <p:cNvSpPr/>
          <p:nvPr/>
        </p:nvSpPr>
        <p:spPr>
          <a:xfrm>
            <a:off x="1857240" y="421488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8" name="矩形 24581"/>
          <p:cNvSpPr/>
          <p:nvPr/>
        </p:nvSpPr>
        <p:spPr>
          <a:xfrm>
            <a:off x="846000" y="2216160"/>
            <a:ext cx="3183120" cy="2448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9" name="矩形 66"/>
          <p:cNvSpPr/>
          <p:nvPr/>
        </p:nvSpPr>
        <p:spPr>
          <a:xfrm>
            <a:off x="880920" y="2795760"/>
            <a:ext cx="30085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50" name="组合 24583"/>
          <p:cNvGrpSpPr/>
          <p:nvPr/>
        </p:nvGrpSpPr>
        <p:grpSpPr>
          <a:xfrm>
            <a:off x="846000" y="2178000"/>
            <a:ext cx="3942000" cy="2463120"/>
            <a:chOff x="846000" y="2178000"/>
            <a:chExt cx="3942000" cy="2463120"/>
          </a:xfrm>
        </p:grpSpPr>
        <p:sp>
          <p:nvSpPr>
            <p:cNvPr id="1651" name="文本框 24584"/>
            <p:cNvSpPr/>
            <p:nvPr/>
          </p:nvSpPr>
          <p:spPr>
            <a:xfrm>
              <a:off x="846000" y="2178000"/>
              <a:ext cx="39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解：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设小明的体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2" name="文本框 24585"/>
            <p:cNvSpPr/>
            <p:nvPr/>
          </p:nvSpPr>
          <p:spPr>
            <a:xfrm>
              <a:off x="1755720" y="269388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3" name="组合 24586"/>
            <p:cNvGrpSpPr/>
            <p:nvPr/>
          </p:nvGrpSpPr>
          <p:grpSpPr>
            <a:xfrm>
              <a:off x="1450800" y="2538360"/>
              <a:ext cx="537480" cy="815040"/>
              <a:chOff x="1450800" y="2538360"/>
              <a:chExt cx="537480" cy="815040"/>
            </a:xfrm>
          </p:grpSpPr>
          <p:sp>
            <p:nvSpPr>
              <p:cNvPr id="1654" name="文本框 24587"/>
              <p:cNvSpPr/>
              <p:nvPr/>
            </p:nvSpPr>
            <p:spPr>
              <a:xfrm>
                <a:off x="1457280" y="289368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5" name="文本框 24588"/>
              <p:cNvSpPr/>
              <p:nvPr/>
            </p:nvSpPr>
            <p:spPr>
              <a:xfrm>
                <a:off x="1450800" y="2538360"/>
                <a:ext cx="37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6" name="直接连接符 24589"/>
              <p:cNvSpPr/>
              <p:nvPr/>
            </p:nvSpPr>
            <p:spPr>
              <a:xfrm>
                <a:off x="1467360" y="2957400"/>
                <a:ext cx="30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57" name="矩形 24590"/>
            <p:cNvSpPr/>
            <p:nvPr/>
          </p:nvSpPr>
          <p:spPr>
            <a:xfrm>
              <a:off x="1760400" y="3195720"/>
              <a:ext cx="165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8" name="组合 24591"/>
            <p:cNvGrpSpPr/>
            <p:nvPr/>
          </p:nvGrpSpPr>
          <p:grpSpPr>
            <a:xfrm>
              <a:off x="2835360" y="2994120"/>
              <a:ext cx="537480" cy="815040"/>
              <a:chOff x="2835360" y="2994120"/>
              <a:chExt cx="537480" cy="815040"/>
            </a:xfrm>
          </p:grpSpPr>
          <p:sp>
            <p:nvSpPr>
              <p:cNvPr id="1659" name="文本框 24592"/>
              <p:cNvSpPr/>
              <p:nvPr/>
            </p:nvSpPr>
            <p:spPr>
              <a:xfrm>
                <a:off x="2841840" y="334944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0" name="文本框 24593"/>
              <p:cNvSpPr/>
              <p:nvPr/>
            </p:nvSpPr>
            <p:spPr>
              <a:xfrm>
                <a:off x="2835360" y="2994120"/>
                <a:ext cx="37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1" name="直接连接符 24594"/>
              <p:cNvSpPr/>
              <p:nvPr/>
            </p:nvSpPr>
            <p:spPr>
              <a:xfrm>
                <a:off x="2851920" y="3413160"/>
                <a:ext cx="30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62" name="矩形 24595"/>
            <p:cNvSpPr/>
            <p:nvPr/>
          </p:nvSpPr>
          <p:spPr>
            <a:xfrm>
              <a:off x="1778040" y="3778200"/>
              <a:ext cx="149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63" name="组合 24596"/>
            <p:cNvGrpSpPr/>
            <p:nvPr/>
          </p:nvGrpSpPr>
          <p:grpSpPr>
            <a:xfrm>
              <a:off x="2852640" y="3576600"/>
              <a:ext cx="537480" cy="815040"/>
              <a:chOff x="2852640" y="3576600"/>
              <a:chExt cx="537480" cy="815040"/>
            </a:xfrm>
          </p:grpSpPr>
          <p:sp>
            <p:nvSpPr>
              <p:cNvPr id="1664" name="文本框 24597"/>
              <p:cNvSpPr/>
              <p:nvPr/>
            </p:nvSpPr>
            <p:spPr>
              <a:xfrm>
                <a:off x="2859120" y="393192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5" name="文本框 24598"/>
              <p:cNvSpPr/>
              <p:nvPr/>
            </p:nvSpPr>
            <p:spPr>
              <a:xfrm>
                <a:off x="2852640" y="3576600"/>
                <a:ext cx="37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6" name="直接连接符 24599"/>
              <p:cNvSpPr/>
              <p:nvPr/>
            </p:nvSpPr>
            <p:spPr>
              <a:xfrm>
                <a:off x="2869200" y="3995640"/>
                <a:ext cx="30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67" name="文本框 24600"/>
            <p:cNvSpPr/>
            <p:nvPr/>
          </p:nvSpPr>
          <p:spPr>
            <a:xfrm>
              <a:off x="1778040" y="41814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68" name="组合 24601"/>
          <p:cNvGrpSpPr/>
          <p:nvPr/>
        </p:nvGrpSpPr>
        <p:grpSpPr>
          <a:xfrm>
            <a:off x="4446720" y="2144880"/>
            <a:ext cx="2573280" cy="1788840"/>
            <a:chOff x="4446720" y="2144880"/>
            <a:chExt cx="2573280" cy="1788840"/>
          </a:xfrm>
        </p:grpSpPr>
        <p:sp>
          <p:nvSpPr>
            <p:cNvPr id="1669" name="矩形 24602"/>
            <p:cNvSpPr/>
            <p:nvPr/>
          </p:nvSpPr>
          <p:spPr>
            <a:xfrm>
              <a:off x="4525920" y="2206800"/>
              <a:ext cx="1515960" cy="1726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70" name="矩形 24603"/>
            <p:cNvSpPr/>
            <p:nvPr/>
          </p:nvSpPr>
          <p:spPr>
            <a:xfrm>
              <a:off x="4446720" y="233352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1" name="组合 24604"/>
            <p:cNvGrpSpPr/>
            <p:nvPr/>
          </p:nvGrpSpPr>
          <p:grpSpPr>
            <a:xfrm>
              <a:off x="5367240" y="2144880"/>
              <a:ext cx="566280" cy="815040"/>
              <a:chOff x="5367240" y="2144880"/>
              <a:chExt cx="566280" cy="815040"/>
            </a:xfrm>
          </p:grpSpPr>
          <p:sp>
            <p:nvSpPr>
              <p:cNvPr id="1672" name="文本框 24605"/>
              <p:cNvSpPr/>
              <p:nvPr/>
            </p:nvSpPr>
            <p:spPr>
              <a:xfrm>
                <a:off x="5374080" y="2500200"/>
                <a:ext cx="55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3" name="文本框 24606"/>
              <p:cNvSpPr/>
              <p:nvPr/>
            </p:nvSpPr>
            <p:spPr>
              <a:xfrm>
                <a:off x="5367240" y="2144880"/>
                <a:ext cx="39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直接连接符 24607"/>
              <p:cNvSpPr/>
              <p:nvPr/>
            </p:nvSpPr>
            <p:spPr>
              <a:xfrm>
                <a:off x="5384520" y="2563920"/>
                <a:ext cx="3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5" name="矩形 24608"/>
            <p:cNvSpPr/>
            <p:nvPr/>
          </p:nvSpPr>
          <p:spPr>
            <a:xfrm>
              <a:off x="4465800" y="291636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6" name="组合 24609"/>
            <p:cNvGrpSpPr/>
            <p:nvPr/>
          </p:nvGrpSpPr>
          <p:grpSpPr>
            <a:xfrm>
              <a:off x="5397480" y="2716200"/>
              <a:ext cx="565920" cy="815040"/>
              <a:chOff x="5397480" y="2716200"/>
              <a:chExt cx="565920" cy="815040"/>
            </a:xfrm>
          </p:grpSpPr>
          <p:sp>
            <p:nvSpPr>
              <p:cNvPr id="1677" name="文本框 24610"/>
              <p:cNvSpPr/>
              <p:nvPr/>
            </p:nvSpPr>
            <p:spPr>
              <a:xfrm>
                <a:off x="5404320" y="3071520"/>
                <a:ext cx="55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8" name="文本框 24611"/>
              <p:cNvSpPr/>
              <p:nvPr/>
            </p:nvSpPr>
            <p:spPr>
              <a:xfrm>
                <a:off x="5397480" y="2716200"/>
                <a:ext cx="3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9" name="直接连接符 24612"/>
              <p:cNvSpPr/>
              <p:nvPr/>
            </p:nvSpPr>
            <p:spPr>
              <a:xfrm>
                <a:off x="5414760" y="3135240"/>
                <a:ext cx="31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80" name="文本框 24613"/>
            <p:cNvSpPr/>
            <p:nvPr/>
          </p:nvSpPr>
          <p:spPr>
            <a:xfrm>
              <a:off x="4465800" y="3321000"/>
              <a:ext cx="25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81" name="组合 24614"/>
          <p:cNvGrpSpPr/>
          <p:nvPr/>
        </p:nvGrpSpPr>
        <p:grpSpPr>
          <a:xfrm>
            <a:off x="6462720" y="2205000"/>
            <a:ext cx="1727280" cy="1584360"/>
            <a:chOff x="6462720" y="2205000"/>
            <a:chExt cx="1727280" cy="1584360"/>
          </a:xfrm>
        </p:grpSpPr>
        <p:sp>
          <p:nvSpPr>
            <p:cNvPr id="1682" name="矩形 24615"/>
            <p:cNvSpPr/>
            <p:nvPr/>
          </p:nvSpPr>
          <p:spPr>
            <a:xfrm>
              <a:off x="6462720" y="2205000"/>
              <a:ext cx="1727280" cy="158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83" name="文本框 24616"/>
            <p:cNvSpPr/>
            <p:nvPr/>
          </p:nvSpPr>
          <p:spPr>
            <a:xfrm>
              <a:off x="6534360" y="2276280"/>
              <a:ext cx="158436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÷4×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×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84" name="组合 24617"/>
          <p:cNvGrpSpPr/>
          <p:nvPr/>
        </p:nvGrpSpPr>
        <p:grpSpPr>
          <a:xfrm>
            <a:off x="857160" y="4632480"/>
            <a:ext cx="7775640" cy="815040"/>
            <a:chOff x="857160" y="4632480"/>
            <a:chExt cx="7775640" cy="815040"/>
          </a:xfrm>
        </p:grpSpPr>
        <p:sp>
          <p:nvSpPr>
            <p:cNvPr id="1685" name="Rectangle 2"/>
            <p:cNvSpPr/>
            <p:nvPr/>
          </p:nvSpPr>
          <p:spPr>
            <a:xfrm>
              <a:off x="857160" y="4786200"/>
              <a:ext cx="7775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检验结果是否正确？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×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))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6" name="组合 24619"/>
            <p:cNvGrpSpPr/>
            <p:nvPr/>
          </p:nvGrpSpPr>
          <p:grpSpPr>
            <a:xfrm>
              <a:off x="5595840" y="4632480"/>
              <a:ext cx="511200" cy="815040"/>
              <a:chOff x="5595840" y="4632480"/>
              <a:chExt cx="511200" cy="815040"/>
            </a:xfrm>
          </p:grpSpPr>
          <p:sp>
            <p:nvSpPr>
              <p:cNvPr id="1687" name="文本框 24620"/>
              <p:cNvSpPr/>
              <p:nvPr/>
            </p:nvSpPr>
            <p:spPr>
              <a:xfrm>
                <a:off x="5602320" y="4987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文本框 24621"/>
              <p:cNvSpPr/>
              <p:nvPr/>
            </p:nvSpPr>
            <p:spPr>
              <a:xfrm>
                <a:off x="5595840" y="4632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9" name="直接连接符 24622"/>
              <p:cNvSpPr/>
              <p:nvPr/>
            </p:nvSpPr>
            <p:spPr>
              <a:xfrm>
                <a:off x="5611680" y="5051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TextBox 26"/>
          <p:cNvSpPr/>
          <p:nvPr/>
        </p:nvSpPr>
        <p:spPr>
          <a:xfrm>
            <a:off x="395280" y="13683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杯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L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鲜牛奶大约含有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钙质，占一个成年人一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所需钙质的     。一个成年人一天大约需要多少钙质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1" name="Rectangle 2"/>
          <p:cNvSpPr/>
          <p:nvPr/>
        </p:nvSpPr>
        <p:spPr>
          <a:xfrm>
            <a:off x="1406520" y="633564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还有别的方法吗？交流与反馈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2" name="Rectangle 2"/>
          <p:cNvSpPr/>
          <p:nvPr/>
        </p:nvSpPr>
        <p:spPr>
          <a:xfrm>
            <a:off x="625320" y="527832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3" name="Rectangle 2"/>
          <p:cNvSpPr/>
          <p:nvPr/>
        </p:nvSpPr>
        <p:spPr>
          <a:xfrm>
            <a:off x="1414440" y="5616720"/>
            <a:ext cx="70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题意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5" name="Rectangle 2"/>
          <p:cNvSpPr/>
          <p:nvPr/>
        </p:nvSpPr>
        <p:spPr>
          <a:xfrm>
            <a:off x="1406520" y="6070680"/>
            <a:ext cx="700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出等量关系，列方程解决问题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6" name="组合 25607"/>
          <p:cNvGrpSpPr/>
          <p:nvPr/>
        </p:nvGrpSpPr>
        <p:grpSpPr>
          <a:xfrm>
            <a:off x="4356000" y="1268280"/>
            <a:ext cx="504720" cy="815400"/>
            <a:chOff x="4356000" y="1268280"/>
            <a:chExt cx="504720" cy="815400"/>
          </a:xfrm>
        </p:grpSpPr>
        <p:sp>
          <p:nvSpPr>
            <p:cNvPr id="1697" name="文本框 25608"/>
            <p:cNvSpPr/>
            <p:nvPr/>
          </p:nvSpPr>
          <p:spPr>
            <a:xfrm>
              <a:off x="4356000" y="162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8" name="文本框 25609"/>
            <p:cNvSpPr/>
            <p:nvPr/>
          </p:nvSpPr>
          <p:spPr>
            <a:xfrm>
              <a:off x="4444920" y="126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9" name="直接连接符 25610"/>
            <p:cNvSpPr/>
            <p:nvPr/>
          </p:nvSpPr>
          <p:spPr>
            <a:xfrm>
              <a:off x="4422600" y="168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0" name="组合 25611"/>
          <p:cNvGrpSpPr/>
          <p:nvPr/>
        </p:nvGrpSpPr>
        <p:grpSpPr>
          <a:xfrm>
            <a:off x="2100240" y="1727280"/>
            <a:ext cx="511200" cy="815040"/>
            <a:chOff x="2100240" y="1727280"/>
            <a:chExt cx="511200" cy="815040"/>
          </a:xfrm>
        </p:grpSpPr>
        <p:sp>
          <p:nvSpPr>
            <p:cNvPr id="1701" name="文本框 25612"/>
            <p:cNvSpPr/>
            <p:nvPr/>
          </p:nvSpPr>
          <p:spPr>
            <a:xfrm>
              <a:off x="2106720" y="2082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2" name="文本框 25613"/>
            <p:cNvSpPr/>
            <p:nvPr/>
          </p:nvSpPr>
          <p:spPr>
            <a:xfrm>
              <a:off x="2100240" y="172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3" name="直接连接符 25614"/>
            <p:cNvSpPr/>
            <p:nvPr/>
          </p:nvSpPr>
          <p:spPr>
            <a:xfrm>
              <a:off x="2116080" y="21463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4" name="组合 25615"/>
          <p:cNvGrpSpPr/>
          <p:nvPr/>
        </p:nvGrpSpPr>
        <p:grpSpPr>
          <a:xfrm>
            <a:off x="717480" y="2276640"/>
            <a:ext cx="4535640" cy="3204000"/>
            <a:chOff x="717480" y="2276640"/>
            <a:chExt cx="4535640" cy="3204000"/>
          </a:xfrm>
        </p:grpSpPr>
        <p:grpSp>
          <p:nvGrpSpPr>
            <p:cNvPr id="1705" name="组合 25616"/>
            <p:cNvGrpSpPr/>
            <p:nvPr/>
          </p:nvGrpSpPr>
          <p:grpSpPr>
            <a:xfrm>
              <a:off x="2392200" y="2874960"/>
              <a:ext cx="504720" cy="815400"/>
              <a:chOff x="2392200" y="2874960"/>
              <a:chExt cx="504720" cy="815400"/>
            </a:xfrm>
          </p:grpSpPr>
          <p:sp>
            <p:nvSpPr>
              <p:cNvPr id="1706" name="文本框 25617"/>
              <p:cNvSpPr/>
              <p:nvPr/>
            </p:nvSpPr>
            <p:spPr>
              <a:xfrm>
                <a:off x="2392200" y="3230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7" name="文本框 25618"/>
              <p:cNvSpPr/>
              <p:nvPr/>
            </p:nvSpPr>
            <p:spPr>
              <a:xfrm>
                <a:off x="2481120" y="28749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8" name="直接连接符 25619"/>
              <p:cNvSpPr/>
              <p:nvPr/>
            </p:nvSpPr>
            <p:spPr>
              <a:xfrm>
                <a:off x="2458800" y="32940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09" name="组合 25620"/>
            <p:cNvGrpSpPr/>
            <p:nvPr/>
          </p:nvGrpSpPr>
          <p:grpSpPr>
            <a:xfrm>
              <a:off x="717480" y="2276640"/>
              <a:ext cx="4535640" cy="3204000"/>
              <a:chOff x="717480" y="2276640"/>
              <a:chExt cx="4535640" cy="3204000"/>
            </a:xfrm>
          </p:grpSpPr>
          <p:sp>
            <p:nvSpPr>
              <p:cNvPr id="1710" name="Text Box 14"/>
              <p:cNvSpPr/>
              <p:nvPr/>
            </p:nvSpPr>
            <p:spPr>
              <a:xfrm>
                <a:off x="717480" y="2276640"/>
                <a:ext cx="4535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预设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解：设成年人一天大约需要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g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钙质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11" name="组合 25622"/>
              <p:cNvGrpSpPr/>
              <p:nvPr/>
            </p:nvGrpSpPr>
            <p:grpSpPr>
              <a:xfrm>
                <a:off x="2479680" y="4665600"/>
                <a:ext cx="511200" cy="815040"/>
                <a:chOff x="2479680" y="4665600"/>
                <a:chExt cx="511200" cy="815040"/>
              </a:xfrm>
            </p:grpSpPr>
            <p:sp>
              <p:nvSpPr>
                <p:cNvPr id="1712" name="文本框 25623"/>
                <p:cNvSpPr/>
                <p:nvPr/>
              </p:nvSpPr>
              <p:spPr>
                <a:xfrm>
                  <a:off x="2486160" y="5020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3" name="文本框 25624"/>
                <p:cNvSpPr/>
                <p:nvPr/>
              </p:nvSpPr>
              <p:spPr>
                <a:xfrm>
                  <a:off x="2479680" y="46656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4" name="直接连接符 25625"/>
                <p:cNvSpPr/>
                <p:nvPr/>
              </p:nvSpPr>
              <p:spPr>
                <a:xfrm>
                  <a:off x="2495520" y="50846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15" name="文本框 25626"/>
              <p:cNvSpPr/>
              <p:nvPr/>
            </p:nvSpPr>
            <p:spPr>
              <a:xfrm>
                <a:off x="1974960" y="3041640"/>
                <a:ext cx="23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16" name="组合 25627"/>
              <p:cNvGrpSpPr/>
              <p:nvPr/>
            </p:nvGrpSpPr>
            <p:grpSpPr>
              <a:xfrm>
                <a:off x="1685880" y="2886120"/>
                <a:ext cx="511200" cy="815040"/>
                <a:chOff x="1685880" y="2886120"/>
                <a:chExt cx="511200" cy="815040"/>
              </a:xfrm>
            </p:grpSpPr>
            <p:sp>
              <p:nvSpPr>
                <p:cNvPr id="1717" name="文本框 25628"/>
                <p:cNvSpPr/>
                <p:nvPr/>
              </p:nvSpPr>
              <p:spPr>
                <a:xfrm>
                  <a:off x="1692360" y="3241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8" name="文本框 25629"/>
                <p:cNvSpPr/>
                <p:nvPr/>
              </p:nvSpPr>
              <p:spPr>
                <a:xfrm>
                  <a:off x="1685880" y="2886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9" name="直接连接符 25630"/>
                <p:cNvSpPr/>
                <p:nvPr/>
              </p:nvSpPr>
              <p:spPr>
                <a:xfrm>
                  <a:off x="1701720" y="330516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20" name="矩形 25631"/>
              <p:cNvSpPr/>
              <p:nvPr/>
            </p:nvSpPr>
            <p:spPr>
              <a:xfrm>
                <a:off x="1990800" y="3598920"/>
                <a:ext cx="186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÷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21" name="组合 25632"/>
              <p:cNvGrpSpPr/>
              <p:nvPr/>
            </p:nvGrpSpPr>
            <p:grpSpPr>
              <a:xfrm>
                <a:off x="3054240" y="3441600"/>
                <a:ext cx="511200" cy="815040"/>
                <a:chOff x="3054240" y="3441600"/>
                <a:chExt cx="511200" cy="815040"/>
              </a:xfrm>
            </p:grpSpPr>
            <p:sp>
              <p:nvSpPr>
                <p:cNvPr id="1722" name="文本框 25633"/>
                <p:cNvSpPr/>
                <p:nvPr/>
              </p:nvSpPr>
              <p:spPr>
                <a:xfrm>
                  <a:off x="3060720" y="3796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3" name="文本框 25634"/>
                <p:cNvSpPr/>
                <p:nvPr/>
              </p:nvSpPr>
              <p:spPr>
                <a:xfrm>
                  <a:off x="3054240" y="34416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4" name="直接连接符 25635"/>
                <p:cNvSpPr/>
                <p:nvPr/>
              </p:nvSpPr>
              <p:spPr>
                <a:xfrm>
                  <a:off x="3070080" y="38606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25" name="矩形 25636"/>
              <p:cNvSpPr/>
              <p:nvPr/>
            </p:nvSpPr>
            <p:spPr>
              <a:xfrm>
                <a:off x="1996920" y="4218120"/>
                <a:ext cx="199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6" name="文本框 25637"/>
              <p:cNvSpPr/>
              <p:nvPr/>
            </p:nvSpPr>
            <p:spPr>
              <a:xfrm>
                <a:off x="2025720" y="4809960"/>
                <a:ext cx="66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27" name="组合 25638"/>
              <p:cNvGrpSpPr/>
              <p:nvPr/>
            </p:nvGrpSpPr>
            <p:grpSpPr>
              <a:xfrm>
                <a:off x="2397240" y="3440160"/>
                <a:ext cx="504720" cy="815400"/>
                <a:chOff x="2397240" y="3440160"/>
                <a:chExt cx="504720" cy="815400"/>
              </a:xfrm>
            </p:grpSpPr>
            <p:sp>
              <p:nvSpPr>
                <p:cNvPr id="1728" name="文本框 25639"/>
                <p:cNvSpPr/>
                <p:nvPr/>
              </p:nvSpPr>
              <p:spPr>
                <a:xfrm>
                  <a:off x="2397240" y="37958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9" name="文本框 25640"/>
                <p:cNvSpPr/>
                <p:nvPr/>
              </p:nvSpPr>
              <p:spPr>
                <a:xfrm>
                  <a:off x="2486160" y="3440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0" name="直接连接符 25641"/>
                <p:cNvSpPr/>
                <p:nvPr/>
              </p:nvSpPr>
              <p:spPr>
                <a:xfrm>
                  <a:off x="2463840" y="3859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31" name="组合 25642"/>
              <p:cNvGrpSpPr/>
              <p:nvPr/>
            </p:nvGrpSpPr>
            <p:grpSpPr>
              <a:xfrm>
                <a:off x="3065400" y="4040280"/>
                <a:ext cx="511200" cy="815040"/>
                <a:chOff x="3065400" y="4040280"/>
                <a:chExt cx="511200" cy="815040"/>
              </a:xfrm>
            </p:grpSpPr>
            <p:sp>
              <p:nvSpPr>
                <p:cNvPr id="1732" name="文本框 25643"/>
                <p:cNvSpPr/>
                <p:nvPr/>
              </p:nvSpPr>
              <p:spPr>
                <a:xfrm>
                  <a:off x="3071880" y="43956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3" name="文本框 25644"/>
                <p:cNvSpPr/>
                <p:nvPr/>
              </p:nvSpPr>
              <p:spPr>
                <a:xfrm>
                  <a:off x="3065400" y="4040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4" name="直接连接符 25645"/>
                <p:cNvSpPr/>
                <p:nvPr/>
              </p:nvSpPr>
              <p:spPr>
                <a:xfrm>
                  <a:off x="3081240" y="44593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35" name="组合 25646"/>
              <p:cNvGrpSpPr/>
              <p:nvPr/>
            </p:nvGrpSpPr>
            <p:grpSpPr>
              <a:xfrm>
                <a:off x="2408400" y="4038480"/>
                <a:ext cx="504720" cy="815400"/>
                <a:chOff x="2408400" y="4038480"/>
                <a:chExt cx="504720" cy="815400"/>
              </a:xfrm>
            </p:grpSpPr>
            <p:sp>
              <p:nvSpPr>
                <p:cNvPr id="1736" name="文本框 25647"/>
                <p:cNvSpPr/>
                <p:nvPr/>
              </p:nvSpPr>
              <p:spPr>
                <a:xfrm>
                  <a:off x="2408400" y="4394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7" name="文本框 25648"/>
                <p:cNvSpPr/>
                <p:nvPr/>
              </p:nvSpPr>
              <p:spPr>
                <a:xfrm>
                  <a:off x="2497320" y="4038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38" name="直接连接符 25649"/>
                <p:cNvSpPr/>
                <p:nvPr/>
              </p:nvSpPr>
              <p:spPr>
                <a:xfrm>
                  <a:off x="2475000" y="4457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739" name="组合 25650"/>
          <p:cNvGrpSpPr/>
          <p:nvPr/>
        </p:nvGrpSpPr>
        <p:grpSpPr>
          <a:xfrm>
            <a:off x="5397480" y="2343240"/>
            <a:ext cx="3457440" cy="2267640"/>
            <a:chOff x="5397480" y="2343240"/>
            <a:chExt cx="3457440" cy="2267640"/>
          </a:xfrm>
        </p:grpSpPr>
        <p:sp>
          <p:nvSpPr>
            <p:cNvPr id="1740" name="Text Box 18"/>
            <p:cNvSpPr/>
            <p:nvPr/>
          </p:nvSpPr>
          <p:spPr>
            <a:xfrm>
              <a:off x="5397480" y="2343240"/>
              <a:ext cx="34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41" name="组合 25652"/>
            <p:cNvGrpSpPr/>
            <p:nvPr/>
          </p:nvGrpSpPr>
          <p:grpSpPr>
            <a:xfrm>
              <a:off x="6462720" y="3795840"/>
              <a:ext cx="511200" cy="815040"/>
              <a:chOff x="6462720" y="3795840"/>
              <a:chExt cx="511200" cy="815040"/>
            </a:xfrm>
          </p:grpSpPr>
          <p:sp>
            <p:nvSpPr>
              <p:cNvPr id="1742" name="文本框 25653"/>
              <p:cNvSpPr/>
              <p:nvPr/>
            </p:nvSpPr>
            <p:spPr>
              <a:xfrm>
                <a:off x="6469200" y="4151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3" name="文本框 25654"/>
              <p:cNvSpPr/>
              <p:nvPr/>
            </p:nvSpPr>
            <p:spPr>
              <a:xfrm>
                <a:off x="6462720" y="3795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4" name="直接连接符 25655"/>
              <p:cNvSpPr/>
              <p:nvPr/>
            </p:nvSpPr>
            <p:spPr>
              <a:xfrm>
                <a:off x="6478560" y="4214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45" name="矩形 25656"/>
            <p:cNvSpPr/>
            <p:nvPr/>
          </p:nvSpPr>
          <p:spPr>
            <a:xfrm>
              <a:off x="5973840" y="2728800"/>
              <a:ext cx="16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46" name="组合 25657"/>
            <p:cNvGrpSpPr/>
            <p:nvPr/>
          </p:nvGrpSpPr>
          <p:grpSpPr>
            <a:xfrm>
              <a:off x="7068960" y="2560680"/>
              <a:ext cx="511200" cy="815040"/>
              <a:chOff x="7068960" y="2560680"/>
              <a:chExt cx="511200" cy="815040"/>
            </a:xfrm>
          </p:grpSpPr>
          <p:sp>
            <p:nvSpPr>
              <p:cNvPr id="1747" name="文本框 25658"/>
              <p:cNvSpPr/>
              <p:nvPr/>
            </p:nvSpPr>
            <p:spPr>
              <a:xfrm>
                <a:off x="7075440" y="2916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8" name="文本框 25659"/>
              <p:cNvSpPr/>
              <p:nvPr/>
            </p:nvSpPr>
            <p:spPr>
              <a:xfrm>
                <a:off x="7068960" y="2560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9" name="直接连接符 25660"/>
              <p:cNvSpPr/>
              <p:nvPr/>
            </p:nvSpPr>
            <p:spPr>
              <a:xfrm>
                <a:off x="7084800" y="2979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50" name="矩形 25661"/>
            <p:cNvSpPr/>
            <p:nvPr/>
          </p:nvSpPr>
          <p:spPr>
            <a:xfrm>
              <a:off x="5979960" y="3348000"/>
              <a:ext cx="19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1" name="文本框 25662"/>
            <p:cNvSpPr/>
            <p:nvPr/>
          </p:nvSpPr>
          <p:spPr>
            <a:xfrm>
              <a:off x="6008760" y="3940200"/>
              <a:ext cx="25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 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52" name="组合 25663"/>
            <p:cNvGrpSpPr/>
            <p:nvPr/>
          </p:nvGrpSpPr>
          <p:grpSpPr>
            <a:xfrm>
              <a:off x="6356520" y="2558880"/>
              <a:ext cx="504720" cy="815400"/>
              <a:chOff x="6356520" y="2558880"/>
              <a:chExt cx="504720" cy="815400"/>
            </a:xfrm>
          </p:grpSpPr>
          <p:sp>
            <p:nvSpPr>
              <p:cNvPr id="1753" name="文本框 25664"/>
              <p:cNvSpPr/>
              <p:nvPr/>
            </p:nvSpPr>
            <p:spPr>
              <a:xfrm>
                <a:off x="6356520" y="2914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4" name="文本框 25665"/>
              <p:cNvSpPr/>
              <p:nvPr/>
            </p:nvSpPr>
            <p:spPr>
              <a:xfrm>
                <a:off x="6445440" y="2558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5" name="直接连接符 25666"/>
              <p:cNvSpPr/>
              <p:nvPr/>
            </p:nvSpPr>
            <p:spPr>
              <a:xfrm>
                <a:off x="6423120" y="29779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56" name="组合 25667"/>
            <p:cNvGrpSpPr/>
            <p:nvPr/>
          </p:nvGrpSpPr>
          <p:grpSpPr>
            <a:xfrm>
              <a:off x="7026120" y="3170160"/>
              <a:ext cx="511200" cy="815040"/>
              <a:chOff x="7026120" y="3170160"/>
              <a:chExt cx="511200" cy="815040"/>
            </a:xfrm>
          </p:grpSpPr>
          <p:sp>
            <p:nvSpPr>
              <p:cNvPr id="1757" name="文本框 25668"/>
              <p:cNvSpPr/>
              <p:nvPr/>
            </p:nvSpPr>
            <p:spPr>
              <a:xfrm>
                <a:off x="7032600" y="3525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8" name="文本框 25669"/>
              <p:cNvSpPr/>
              <p:nvPr/>
            </p:nvSpPr>
            <p:spPr>
              <a:xfrm>
                <a:off x="7026120" y="3170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9" name="直接连接符 25670"/>
              <p:cNvSpPr/>
              <p:nvPr/>
            </p:nvSpPr>
            <p:spPr>
              <a:xfrm>
                <a:off x="7041960" y="3589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60" name="组合 25671"/>
            <p:cNvGrpSpPr/>
            <p:nvPr/>
          </p:nvGrpSpPr>
          <p:grpSpPr>
            <a:xfrm>
              <a:off x="6380280" y="3168720"/>
              <a:ext cx="504720" cy="815400"/>
              <a:chOff x="6380280" y="3168720"/>
              <a:chExt cx="504720" cy="815400"/>
            </a:xfrm>
          </p:grpSpPr>
          <p:sp>
            <p:nvSpPr>
              <p:cNvPr id="1761" name="文本框 25672"/>
              <p:cNvSpPr/>
              <p:nvPr/>
            </p:nvSpPr>
            <p:spPr>
              <a:xfrm>
                <a:off x="6380280" y="3524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2" name="文本框 25673"/>
              <p:cNvSpPr/>
              <p:nvPr/>
            </p:nvSpPr>
            <p:spPr>
              <a:xfrm>
                <a:off x="6469200" y="3168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3" name="直接连接符 25674"/>
              <p:cNvSpPr/>
              <p:nvPr/>
            </p:nvSpPr>
            <p:spPr>
              <a:xfrm>
                <a:off x="6446880" y="3587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6178680" y="3106800"/>
            <a:ext cx="14079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6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千米／时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6" name="Rectangle 23"/>
          <p:cNvSpPr/>
          <p:nvPr/>
        </p:nvSpPr>
        <p:spPr>
          <a:xfrm>
            <a:off x="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67" name="组合 26628"/>
          <p:cNvGrpSpPr/>
          <p:nvPr/>
        </p:nvGrpSpPr>
        <p:grpSpPr>
          <a:xfrm>
            <a:off x="805680" y="1405080"/>
            <a:ext cx="5801040" cy="934920"/>
            <a:chOff x="805680" y="1405080"/>
            <a:chExt cx="5801040" cy="934920"/>
          </a:xfrm>
        </p:grpSpPr>
        <p:sp>
          <p:nvSpPr>
            <p:cNvPr id="1768" name="Rectangle 20"/>
            <p:cNvSpPr/>
            <p:nvPr/>
          </p:nvSpPr>
          <p:spPr>
            <a:xfrm>
              <a:off x="805680" y="1607400"/>
              <a:ext cx="258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.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自行车的速度是摩托车的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9" name="Rectangle 21"/>
            <p:cNvSpPr/>
            <p:nvPr/>
          </p:nvSpPr>
          <p:spPr>
            <a:xfrm>
              <a:off x="4444920" y="1575360"/>
              <a:ext cx="21618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，摩托车每小时行多少千米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70" name="组合 26631"/>
            <p:cNvGrpSpPr/>
            <p:nvPr/>
          </p:nvGrpSpPr>
          <p:grpSpPr>
            <a:xfrm>
              <a:off x="3533760" y="1405080"/>
              <a:ext cx="510480" cy="815040"/>
              <a:chOff x="3533760" y="1405080"/>
              <a:chExt cx="510480" cy="815040"/>
            </a:xfrm>
          </p:grpSpPr>
          <p:sp>
            <p:nvSpPr>
              <p:cNvPr id="1771" name="文本框 26632"/>
              <p:cNvSpPr/>
              <p:nvPr/>
            </p:nvSpPr>
            <p:spPr>
              <a:xfrm>
                <a:off x="3539880" y="17604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2" name="文本框 26633"/>
              <p:cNvSpPr/>
              <p:nvPr/>
            </p:nvSpPr>
            <p:spPr>
              <a:xfrm>
                <a:off x="3533760" y="14050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3" name="直接连接符 26634"/>
              <p:cNvSpPr/>
              <p:nvPr/>
            </p:nvSpPr>
            <p:spPr>
              <a:xfrm>
                <a:off x="3549240" y="18241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74" name="组合 26635"/>
          <p:cNvGrpSpPr/>
          <p:nvPr/>
        </p:nvGrpSpPr>
        <p:grpSpPr>
          <a:xfrm>
            <a:off x="395280" y="2138400"/>
            <a:ext cx="4535280" cy="2948760"/>
            <a:chOff x="395280" y="2138400"/>
            <a:chExt cx="4535280" cy="2948760"/>
          </a:xfrm>
        </p:grpSpPr>
        <p:sp>
          <p:nvSpPr>
            <p:cNvPr id="1775" name="Text Box 14"/>
            <p:cNvSpPr/>
            <p:nvPr/>
          </p:nvSpPr>
          <p:spPr>
            <a:xfrm>
              <a:off x="395280" y="2138400"/>
              <a:ext cx="45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解：设摩托车每小时行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千米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6" name="文本框 26637"/>
            <p:cNvSpPr/>
            <p:nvPr/>
          </p:nvSpPr>
          <p:spPr>
            <a:xfrm>
              <a:off x="1652400" y="290340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77" name="组合 26638"/>
            <p:cNvGrpSpPr/>
            <p:nvPr/>
          </p:nvGrpSpPr>
          <p:grpSpPr>
            <a:xfrm>
              <a:off x="1363680" y="2747880"/>
              <a:ext cx="511200" cy="815040"/>
              <a:chOff x="1363680" y="2747880"/>
              <a:chExt cx="511200" cy="815040"/>
            </a:xfrm>
          </p:grpSpPr>
          <p:sp>
            <p:nvSpPr>
              <p:cNvPr id="1778" name="文本框 26639"/>
              <p:cNvSpPr/>
              <p:nvPr/>
            </p:nvSpPr>
            <p:spPr>
              <a:xfrm>
                <a:off x="1370160" y="3103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9" name="文本框 26640"/>
              <p:cNvSpPr/>
              <p:nvPr/>
            </p:nvSpPr>
            <p:spPr>
              <a:xfrm>
                <a:off x="1363680" y="2747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0" name="直接连接符 26641"/>
              <p:cNvSpPr/>
              <p:nvPr/>
            </p:nvSpPr>
            <p:spPr>
              <a:xfrm>
                <a:off x="1379520" y="3166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81" name="矩形 26642"/>
            <p:cNvSpPr/>
            <p:nvPr/>
          </p:nvSpPr>
          <p:spPr>
            <a:xfrm>
              <a:off x="1725120" y="3460680"/>
              <a:ext cx="9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2" name="组合 26643"/>
            <p:cNvGrpSpPr/>
            <p:nvPr/>
          </p:nvGrpSpPr>
          <p:grpSpPr>
            <a:xfrm>
              <a:off x="2732040" y="3303360"/>
              <a:ext cx="511200" cy="815040"/>
              <a:chOff x="2732040" y="3303360"/>
              <a:chExt cx="511200" cy="815040"/>
            </a:xfrm>
          </p:grpSpPr>
          <p:sp>
            <p:nvSpPr>
              <p:cNvPr id="1783" name="文本框 26644"/>
              <p:cNvSpPr/>
              <p:nvPr/>
            </p:nvSpPr>
            <p:spPr>
              <a:xfrm>
                <a:off x="2738520" y="3658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4" name="文本框 26645"/>
              <p:cNvSpPr/>
              <p:nvPr/>
            </p:nvSpPr>
            <p:spPr>
              <a:xfrm>
                <a:off x="2732040" y="3303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5" name="直接连接符 26646"/>
              <p:cNvSpPr/>
              <p:nvPr/>
            </p:nvSpPr>
            <p:spPr>
              <a:xfrm>
                <a:off x="2747880" y="3722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86" name="矩形 26647"/>
            <p:cNvSpPr/>
            <p:nvPr/>
          </p:nvSpPr>
          <p:spPr>
            <a:xfrm>
              <a:off x="1725480" y="4078080"/>
              <a:ext cx="10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7" name="文本框 26648"/>
            <p:cNvSpPr/>
            <p:nvPr/>
          </p:nvSpPr>
          <p:spPr>
            <a:xfrm>
              <a:off x="1703160" y="4627440"/>
              <a:ext cx="106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8" name="组合 26649"/>
            <p:cNvGrpSpPr/>
            <p:nvPr/>
          </p:nvGrpSpPr>
          <p:grpSpPr>
            <a:xfrm>
              <a:off x="2743200" y="3902040"/>
              <a:ext cx="511200" cy="815040"/>
              <a:chOff x="2743200" y="3902040"/>
              <a:chExt cx="511200" cy="815040"/>
            </a:xfrm>
          </p:grpSpPr>
          <p:sp>
            <p:nvSpPr>
              <p:cNvPr id="1789" name="文本框 26650"/>
              <p:cNvSpPr/>
              <p:nvPr/>
            </p:nvSpPr>
            <p:spPr>
              <a:xfrm>
                <a:off x="2749680" y="4257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0" name="文本框 26651"/>
              <p:cNvSpPr/>
              <p:nvPr/>
            </p:nvSpPr>
            <p:spPr>
              <a:xfrm>
                <a:off x="2743200" y="3902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1" name="直接连接符 26652"/>
              <p:cNvSpPr/>
              <p:nvPr/>
            </p:nvSpPr>
            <p:spPr>
              <a:xfrm>
                <a:off x="2759040" y="4321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92" name="组合 26653"/>
          <p:cNvGrpSpPr/>
          <p:nvPr/>
        </p:nvGrpSpPr>
        <p:grpSpPr>
          <a:xfrm>
            <a:off x="3828960" y="2205000"/>
            <a:ext cx="4535280" cy="2018520"/>
            <a:chOff x="3828960" y="2205000"/>
            <a:chExt cx="4535280" cy="2018520"/>
          </a:xfrm>
        </p:grpSpPr>
        <p:sp>
          <p:nvSpPr>
            <p:cNvPr id="1793" name="Text Box 14"/>
            <p:cNvSpPr/>
            <p:nvPr/>
          </p:nvSpPr>
          <p:spPr>
            <a:xfrm>
              <a:off x="3828960" y="2205000"/>
              <a:ext cx="45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4" name="组合 26655"/>
            <p:cNvGrpSpPr/>
            <p:nvPr/>
          </p:nvGrpSpPr>
          <p:grpSpPr>
            <a:xfrm>
              <a:off x="4153680" y="2439720"/>
              <a:ext cx="2699280" cy="1783800"/>
              <a:chOff x="4153680" y="2439720"/>
              <a:chExt cx="2699280" cy="1783800"/>
            </a:xfrm>
          </p:grpSpPr>
          <p:sp>
            <p:nvSpPr>
              <p:cNvPr id="1795" name="矩形 26656"/>
              <p:cNvSpPr/>
              <p:nvPr/>
            </p:nvSpPr>
            <p:spPr>
              <a:xfrm>
                <a:off x="4295160" y="2595600"/>
                <a:ext cx="102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÷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96" name="组合 26657"/>
              <p:cNvGrpSpPr/>
              <p:nvPr/>
            </p:nvGrpSpPr>
            <p:grpSpPr>
              <a:xfrm>
                <a:off x="5300640" y="2439720"/>
                <a:ext cx="511200" cy="815040"/>
                <a:chOff x="5300640" y="2439720"/>
                <a:chExt cx="511200" cy="815040"/>
              </a:xfrm>
            </p:grpSpPr>
            <p:sp>
              <p:nvSpPr>
                <p:cNvPr id="1797" name="文本框 26658"/>
                <p:cNvSpPr/>
                <p:nvPr/>
              </p:nvSpPr>
              <p:spPr>
                <a:xfrm>
                  <a:off x="5307120" y="2795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98" name="文本框 26659"/>
                <p:cNvSpPr/>
                <p:nvPr/>
              </p:nvSpPr>
              <p:spPr>
                <a:xfrm>
                  <a:off x="5300640" y="24397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99" name="直接连接符 26660"/>
                <p:cNvSpPr/>
                <p:nvPr/>
              </p:nvSpPr>
              <p:spPr>
                <a:xfrm>
                  <a:off x="5316480" y="285876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00" name="矩形 26661"/>
              <p:cNvSpPr/>
              <p:nvPr/>
            </p:nvSpPr>
            <p:spPr>
              <a:xfrm>
                <a:off x="4153680" y="3214440"/>
                <a:ext cx="13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1" name="文本框 26662"/>
              <p:cNvSpPr/>
              <p:nvPr/>
            </p:nvSpPr>
            <p:spPr>
              <a:xfrm>
                <a:off x="4271760" y="3763800"/>
                <a:ext cx="258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0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（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千米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02" name="组合 26663"/>
              <p:cNvGrpSpPr/>
              <p:nvPr/>
            </p:nvGrpSpPr>
            <p:grpSpPr>
              <a:xfrm>
                <a:off x="5311800" y="3038400"/>
                <a:ext cx="510480" cy="815040"/>
                <a:chOff x="5311800" y="3038400"/>
                <a:chExt cx="510480" cy="815040"/>
              </a:xfrm>
            </p:grpSpPr>
            <p:sp>
              <p:nvSpPr>
                <p:cNvPr id="1803" name="文本框 26664"/>
                <p:cNvSpPr/>
                <p:nvPr/>
              </p:nvSpPr>
              <p:spPr>
                <a:xfrm>
                  <a:off x="5317920" y="339372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4" name="文本框 26665"/>
                <p:cNvSpPr/>
                <p:nvPr/>
              </p:nvSpPr>
              <p:spPr>
                <a:xfrm>
                  <a:off x="5311800" y="303840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5" name="直接连接符 26666"/>
                <p:cNvSpPr/>
                <p:nvPr/>
              </p:nvSpPr>
              <p:spPr>
                <a:xfrm>
                  <a:off x="5327280" y="34574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1806" name="Rectangle 2"/>
          <p:cNvSpPr/>
          <p:nvPr/>
        </p:nvSpPr>
        <p:spPr>
          <a:xfrm>
            <a:off x="395280" y="502452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根据题意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Rectangle 2"/>
          <p:cNvSpPr/>
          <p:nvPr/>
        </p:nvSpPr>
        <p:spPr>
          <a:xfrm>
            <a:off x="1187280" y="538308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画的线段图和前两道题有什么不同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8" name="Rectangle 2"/>
          <p:cNvSpPr/>
          <p:nvPr/>
        </p:nvSpPr>
        <p:spPr>
          <a:xfrm>
            <a:off x="1187280" y="6081840"/>
            <a:ext cx="752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谁读懂了它的意思，说一说。还有不同的想法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9" name="Rectangle 2"/>
          <p:cNvSpPr/>
          <p:nvPr/>
        </p:nvSpPr>
        <p:spPr>
          <a:xfrm>
            <a:off x="1187280" y="5800680"/>
            <a:ext cx="610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解决这个问题吗？写出你的思考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10" name="图片 26671" descr="u3jx03_9摩托车副本"/>
          <p:cNvPicPr/>
          <p:nvPr/>
        </p:nvPicPr>
        <p:blipFill>
          <a:blip r:embed="rId1"/>
          <a:stretch/>
        </p:blipFill>
        <p:spPr>
          <a:xfrm>
            <a:off x="7524720" y="220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1811" name="图片 26672" descr="u3jx03_9自行车副本"/>
          <p:cNvPicPr/>
          <p:nvPr/>
        </p:nvPicPr>
        <p:blipFill>
          <a:blip r:embed="rId2"/>
          <a:stretch/>
        </p:blipFill>
        <p:spPr>
          <a:xfrm>
            <a:off x="6045120" y="2220840"/>
            <a:ext cx="144000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20Z</dcterms:modified>
  <cp:revision>3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